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71D-9453-42F3-A2F9-20590ED10C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лка - это жанр народного фольклора, который возник очень давно. Это сейчас считалки являются видом детского творчества, а в далекие времена, как это ни удивительно, считалки использовали взрослые! Они использовали считалки для того, чтобы распределять работу, например, роли перед ох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F2B2-2F0E-4298-A8F3-787D094932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многие виды работы, особенно тогда, были очень тяжелыми, иногда опасными для здоровья и даже для жизни. Мало кто по собственному желанию хотел браться за такие работы. А считалки позволяли распределять работу между участниками так, чтобы никому не было обидно, потому что на такую тяжелую работу посылали не потому, что не можешь поспорить или не нравишься главному, а потому что так выпало по счету, то есть как-никак по справедливости (почитайте, какими были считалки в те времен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2FC-E8C0-4844-A66D-A94FC6E381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92C-10F1-4205-8668-0D4548EE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1F0-82E2-4500-A67F-9FA69319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AF2-AD39-425C-A68D-617FF137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101-F12B-4DFE-96F8-7567D83E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C5A-5442-4EA9-BDB9-847A7355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8FE-F782-4F30-B4E9-24A94A4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640-3A8A-4389-984E-DB47D08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1FE-F860-458C-BBA9-F3FEF61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257-E0D1-40C2-A9EE-F324323A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AD1-3B0F-4102-BB18-7D86829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B6A-70EF-4A6B-BDF6-07EC568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71A-0E8B-4DD8-B1C4-53D094F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5C6-793E-4E18-8BE9-67EFC423A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27.ru/picture/insects/gusenica.php" TargetMode="External"/><Relationship Id="rId3" Type="http://schemas.openxmlformats.org/officeDocument/2006/relationships/hyperlink" Target="http://deti27.ru/picture/insects/gusenica.php" TargetMode="External"/><Relationship Id="rId4" Type="http://schemas.openxmlformats.org/officeDocument/2006/relationships/hyperlink" Target="http://deti27.ru/picture/insects/gusenica.php" TargetMode="External"/><Relationship Id="rId5" Type="http://schemas.openxmlformats.org/officeDocument/2006/relationships/hyperlink" Target="http://deti27.ru/picture/insects/gusenica.php" TargetMode="External"/><Relationship Id="rId6" Type="http://schemas.openxmlformats.org/officeDocument/2006/relationships/hyperlink" Target="http://deti27.ru/picture/insects/gusenica.php" TargetMode="External"/><Relationship Id="rId7" Type="http://schemas.openxmlformats.org/officeDocument/2006/relationships/hyperlink" Target="http://deti27.ru/picture/insects/gusenica.php" TargetMode="External"/><Relationship Id="rId8" Type="http://schemas.openxmlformats.org/officeDocument/2006/relationships/hyperlink" Target="http://deti27.ru/picture/insects/gusenica.php" TargetMode="External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потешки\German.png"/>
          <p:cNvPicPr/>
          <p:nvPr/>
        </p:nvPicPr>
        <p:blipFill>
          <a:blip r:embed="rId2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554040" y="4937040"/>
            <a:ext cx="8066160" cy="2006640"/>
          </a:xfrm>
          <a:prstGeom prst="rect">
            <a:avLst/>
          </a:prstGeom>
          <a:ln w="0">
            <a:noFill/>
          </a:ln>
        </p:spPr>
      </p:pic>
      <p:pic>
        <p:nvPicPr>
          <p:cNvPr id="50" name="Записанный звук" descr=""/>
          <p:cNvPicPr/>
          <p:nvPr/>
        </p:nvPicPr>
        <p:blipFill>
          <a:blip r:embed="rId4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потешки\Deti27_Ru-6745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потешки\Deti27_Ru-3353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потешки\Deti27_Ru-4534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потешки\Deti27_Ru-4563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потешки\Deti27_Ru-45642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G:\потешки\Deti27_Ru-56321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:\потешки\Deti27_Ru-56343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потешки\Deti27_Ru-56744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G:\потешки\Deti27_Ru-5675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:\потешки\Deti27_Ru-674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Считалками принято называть короткие рифмованные стихи, применяемые детьми для определения ролей в игре. Главная особенность считалки – чёткий ритм, возможность кричать раздельно вс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G:\потешки\77.jpg"/>
          <p:cNvPicPr/>
          <p:nvPr/>
        </p:nvPicPr>
        <p:blipFill>
          <a:blip r:embed="rId2"/>
          <a:stretch/>
        </p:blipFill>
        <p:spPr>
          <a:xfrm>
            <a:off x="1401840" y="2567160"/>
            <a:ext cx="6821280" cy="7265880"/>
          </a:xfrm>
          <a:prstGeom prst="rect">
            <a:avLst/>
          </a:prstGeom>
          <a:ln w="0">
            <a:noFill/>
          </a:ln>
        </p:spPr>
      </p:pic>
      <p:pic>
        <p:nvPicPr>
          <p:cNvPr id="53" name="Записанный звук" descr=""/>
          <p:cNvPicPr/>
          <p:nvPr/>
        </p:nvPicPr>
        <p:blipFill>
          <a:blip r:embed="rId3"/>
          <a:stretch/>
        </p:blipFill>
        <p:spPr>
          <a:xfrm>
            <a:off x="788508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G:\потешки\Deti27_Ru-1231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G:\потешки\Deti27_Ru-4324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:\потешки\Deti27_Ru-4332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потешки\Deti27_Ru-53457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потешки\Deti27_Ru-3453456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722520" y="3714840"/>
            <a:ext cx="7758000" cy="2043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люстрации и считалки с сай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deti27.ru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icture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insects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gusenica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формление: Елены Берюх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айт: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hkola-abv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9"/>
          <a:stretch/>
        </p:blipFill>
        <p:spPr>
          <a:xfrm>
            <a:off x="2840040" y="158760"/>
            <a:ext cx="276228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потешки\___1_~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писанный звук" descr=""/>
          <p:cNvPicPr/>
          <p:nvPr/>
        </p:nvPicPr>
        <p:blipFill>
          <a:blip r:embed="rId3"/>
          <a:stretch/>
        </p:blipFill>
        <p:spPr>
          <a:xfrm>
            <a:off x="802800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571680" y="64296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:\потешки\173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потешки\Deti27_Ru-010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Записанный звук" descr=""/>
          <p:cNvPicPr/>
          <p:nvPr/>
        </p:nvPicPr>
        <p:blipFill>
          <a:blip r:embed="rId3"/>
          <a:stretch/>
        </p:blipFill>
        <p:spPr>
          <a:xfrm>
            <a:off x="845964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потешки\Deti27_Ru-34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:\потешки\Deti27_Ru-3545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G:\потешки\Deti27_Ru-567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:\потешки\Deti27_Ru-6744.jpg"/>
          <p:cNvPicPr/>
          <p:nvPr/>
        </p:nvPicPr>
        <p:blipFill>
          <a:blip r:embed="rId2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2:29:06Z</dcterms:created>
  <dc:creator>Helen</dc:creator>
  <dc:description/>
  <dc:language>en-US</dc:language>
  <cp:lastModifiedBy>Берюхов</cp:lastModifiedBy>
  <dcterms:modified xsi:type="dcterms:W3CDTF">2012-09-07T12:35:52Z</dcterms:modified>
  <cp:revision>6</cp:revision>
  <dc:subject/>
  <dc:title>Слайд 1</dc:title>
</cp:coreProperties>
</file>