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E113-2A93-4A0E-B072-62B2D5F9E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4EA-1F5B-4A68-A668-386D4DB815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D48-3117-482C-9B6A-A86E8DE9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407-6E1A-4130-8106-9748C718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571B-EB28-42BD-B898-91B8989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E3ADF-FAB2-45D1-A372-1D5D085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1B119-6837-4D11-B115-36D2CAAA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6DAC0-5A59-4410-BD7F-66CF109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4EE5A-4331-497E-B596-F822EF3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3594-B195-419E-96E4-23886E1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BCA86-691E-4125-A822-5AB5180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02610-DA77-4819-A09D-707E3913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E660-D697-4A43-9B54-5F57F6DC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D0CF4-2389-4470-A404-C2002BE6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EB0-61B5-43A8-B337-F2C71114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21739-B902-4736-90CC-9CC92B7F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22A54-A2B1-46F4-9637-3BC302BF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7CC2B-C3D7-4A01-B13D-683887F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44DB-4E8A-49AA-9BD4-966A2ED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445F1-4816-4EF8-A578-5ECDBDF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FEB42-104E-4505-82F0-779E279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51D5C-658E-464D-BD90-9FC1692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AE063-4B8C-47E1-9EA4-522F0E3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03F4-93A0-4FD8-8EC8-2F8732A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4F649-398F-4286-9E1A-62DF4B8F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7B1-D3E1-4368-AF37-81BED0E0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69B21-E455-42BC-834E-FE5D5929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6B0E-0813-4ED8-8E54-3320424C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A76B-EB6F-46E9-B796-28A730B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8A1B-65EB-4F88-9AEB-772F1F04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1A14C-D26C-4A04-B704-0E83AC89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E5DA-13EC-4B3D-A443-74321DA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8091B-6DA6-4F75-9774-91757E4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5BE66-7CB8-4AEA-BDB6-0C3E921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361DB-5517-4056-B3C5-3E11788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E468F-B6FC-465C-BEBF-19243CE7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EF6F-121F-4462-B5FB-1D05ED5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3FCE-D495-4DD0-A7C7-6B3722D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94C8-F324-40C8-91EA-F492E1F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F194-62E8-4171-AD99-C21A779E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7FE4C-BB61-4C87-9A3A-25234A51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2D86A-6510-43B9-826F-AFCF78DE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DB399-834A-4EBE-B54E-12F1A63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CB8C-ADF6-4705-AA23-F367F35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AAF60-67C6-4D79-841A-02CCC931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88781-942C-443B-9985-36F7A1D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F0AE1-2BAA-4493-90A4-5259A9B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D2A7-38A1-4196-B16A-7B7BD4E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59B3-CBC7-44E8-8059-78FE4E0F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8D1B8-C80E-4DDE-B7B6-BFCD3FC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5E2CD-62DE-4793-BD1E-823C418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BF32C-1360-4F69-AD11-AF41A72B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8AEDC-C2F7-45A5-8ABA-0985E59D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93EF9-A0B3-411B-B204-1592E889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8EF0E-1F1A-44C8-859B-5CA36EA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BB951-2A09-4FEA-B69F-C47D212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F0D43-161E-4E5B-BF49-E0B99FA6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490BF-4DFE-444C-91D9-9119197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F1A7-6AAB-4D26-AEDD-16F6ADD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D3E3C-DA48-4362-8E3E-F861C44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357C3-1BB7-4221-A71D-B8FFA01F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32CEA-3D81-48E5-BBBF-9D0B25A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ED0AF-480B-4758-8148-C45517E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EC709-8814-4CB4-B861-C69CF0B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8F1D6-BDD1-46E9-A037-2E1794F2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5AEFD-7F2F-4300-B68B-23C457D5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C9DE-3DF6-4EE8-A24F-01534527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87F2-8F52-4189-8234-9F8A363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0BA7-F9DA-4C64-B5CA-D2454EB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417B-2641-47D3-BFA7-840F4A6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B48-51D6-4E5D-B62E-7D6B5AC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FD7E-4215-482C-9EE7-21E232B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635B-6F09-447A-8039-A4093A4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689-C42C-4600-9D24-59C5FF8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528-C246-4305-A2D7-8B11E405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D3A2-9E87-454A-9D4B-4BAAF359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6AA1-A48C-449C-AF3B-A3CF6316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8D39-256B-4B39-85C3-8B2BE80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3E67-E3AE-4ED4-88AC-049C559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AE2D-7646-423B-AF81-1611560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2D7A-5CA8-49D5-B2D4-FFCF44C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865-AAEF-4E1D-9B1C-030756B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5079-947A-433D-A353-6E2035C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2E5A-4F2B-4CD8-9B3E-974C3AB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E19F-442B-4FF7-90E3-D9E6DC4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D2BB-0622-41C0-9A16-E52F620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04AE-0ECD-486E-8DBC-F4213FB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FE95-29D1-4A8E-BDE0-1015E601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6393-DB37-4399-A82B-39B96D92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5911-C39B-4829-A68F-66DDA7E7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803B-6C14-4526-B2B6-A6CFCF6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B239-F42B-44E4-AC51-0C6D7CF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CC0-84FA-4EAA-8008-01598A1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6E1F-9EF3-414E-A2AE-25BC617A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262B-B25D-4B06-AAF1-E74C276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8B0F-D83F-4D8F-8C21-CF6686E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C2F9-E5B4-40B8-9914-6356E6D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625B-5A31-4E48-A476-40EBC72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3C1A-A3A8-4F3B-B23A-F915C13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A9AC-1B47-4722-8503-3217331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DBF0-73FB-4BC8-9D76-65DC35DE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F3B4-B8FD-4064-853B-079A9E11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20E7-E59E-446C-83D4-7CDE08D2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253-E1E4-45DC-B059-7B2FD6C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E7AF-3B54-4F7A-B966-4B616CA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00CAD-4819-462D-BAF0-F8B9F73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4485-5BFA-44E6-B156-FD77E448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162F-F1C7-4D9B-8C1F-F3C186A8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C09D7-6568-4AD3-95D3-24D3C08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5B92-430C-48DF-86CD-BACD623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6F7EF-E73E-40F0-917D-B9CF7E8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B8C8-A0F0-4C34-8CDD-B367868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9459-BCD5-4369-B9BF-F9F72E57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1614-31FB-4287-B89F-63BC211E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B03-7AC0-49EB-80F8-49BD34A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3989-91A4-4053-97B9-75D357FB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1B399-744F-469C-9E60-7F85D749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63E4-8376-4A84-9C74-703F8D2D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23B2-3939-4CD0-875E-F97C62B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6235-D829-4F8E-86D2-E441498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E83D-1E8A-4420-B6FB-826085C2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B2D1-5468-43BC-A839-128E77F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7ECB-4081-4124-A813-FE135EE5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D11E-6463-48C8-B7F7-E690F8C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2C4E7-B467-4FC8-92EC-A5DEAC4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D8B-DCEC-4BAE-A43C-E5DD6CFF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2D90-0ACA-49A7-903C-5BD28BC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8CB1-BA99-4DC4-A18D-5B6223E2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3555A-AEC9-4D71-B264-BC07A656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1845-DBC3-430F-8E67-AA9913F7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6330B-A624-4A1D-B80F-5962CCB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FDE3-E64E-4372-999A-6B6741D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7FE9-757A-4B75-A3E7-1646067C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4BE40-9BB9-4D98-ABC2-BADA955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492A-535B-4B5F-983F-57E6545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A7AD-DCE2-4DC7-A3C9-B87D115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6B1-5938-4196-A34E-A9810BF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26E8-9CFD-406B-9B17-F4E2C174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52A4-7927-41A5-86D6-30788E4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B52C-437A-45DE-9884-E9031781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9E608-633F-4CB9-915D-A4FC22B9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BE1C-0BBA-4171-B9DF-13C58CAD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D653-245A-4760-8021-912AAFAC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FAAE-A24C-4A67-BCD5-B9F23E4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4399-E8AC-477A-A88D-3FAF770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C362-D9F7-472E-A486-300D77B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7116-9A8B-45C1-B6ED-2656CBB6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592-33F5-4371-8572-49440FEB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D8B46-301B-4704-B592-E76044C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98FC-34E7-49AE-B5AB-E294156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FD492-C73E-467A-82D7-6164246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76C89-0368-43CA-BDA8-C06F5CD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24E55-790B-4BB7-90A3-AEAD259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29D7-3738-4F69-8FD3-4B19DC04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FC33-41DC-4CC8-9C9D-B588E8D7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A9EA3-86B0-4530-8A5F-D5EDC69C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E256-D181-4988-8897-386BCAC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E1FBF-92F1-47CF-9FAC-DD1F522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B9D7-28DA-4E26-8C5A-8FE665CD284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33EE-6B62-4D18-9494-1A4E47537E2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0974-EFC6-44D9-99B8-2583F27CE1A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6F4-99F9-4555-A758-150BD734FD8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4CAA-D6BD-4EC6-A0F2-1B990808635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70F-032F-4345-B4AE-FD82BF63377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350-71E7-4BF0-9C17-9ED19E88BB0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4E2-A233-4158-B5B4-EE4EA561D17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6E77-552C-4E88-A44D-0A7F6261DFE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4D5-42DC-4934-8799-34E532B0CEC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6B1E-650E-4A10-82CB-FCE50EB90C9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6DE-167D-4F42-9A18-6A363DA32B9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96C-9BB8-4975-A064-711869200F1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lck.ru/3rPQq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ми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усский язык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Морфолог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Синтакси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Фонети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Морфеми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2843280" y="2349360"/>
            <a:ext cx="230508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йди ошиб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7280" y="155736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л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сущ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ств., неодуш., м.р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1619280" y="3068640"/>
            <a:ext cx="1297080" cy="5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йди ошиб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917280" y="155736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льт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иц., неодуш., с.р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4932360" y="2421000"/>
            <a:ext cx="165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йди ошиб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17280" y="162864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на) деревь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сущ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иц., неодуш., м.р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Исправь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0920" y="126828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ена пишет слов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дал пушистый снег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ьётся звонкая песн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ети играют в снеж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3348000" y="1700280"/>
            <a:ext cx="93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2124000" y="1700280"/>
            <a:ext cx="1152000" cy="73080"/>
            <a:chOff x="2124000" y="1700280"/>
            <a:chExt cx="1152000" cy="73080"/>
          </a:xfrm>
        </p:grpSpPr>
        <p:sp>
          <p:nvSpPr>
            <p:cNvPr id="555" name="Line 6"/>
            <p:cNvSpPr/>
            <p:nvPr/>
          </p:nvSpPr>
          <p:spPr>
            <a:xfrm>
              <a:off x="2124000" y="1700280"/>
              <a:ext cx="1152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2124000" y="1773360"/>
              <a:ext cx="1152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Line 8"/>
          <p:cNvSpPr/>
          <p:nvPr/>
        </p:nvSpPr>
        <p:spPr>
          <a:xfrm>
            <a:off x="3995640" y="2852640"/>
            <a:ext cx="7923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2556000" y="2852640"/>
            <a:ext cx="1223280" cy="71640"/>
            <a:chOff x="2556000" y="2852640"/>
            <a:chExt cx="1223280" cy="71640"/>
          </a:xfrm>
        </p:grpSpPr>
        <p:sp>
          <p:nvSpPr>
            <p:cNvPr id="559" name="Line 10"/>
            <p:cNvSpPr/>
            <p:nvPr/>
          </p:nvSpPr>
          <p:spPr>
            <a:xfrm>
              <a:off x="2556000" y="2852640"/>
              <a:ext cx="12232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2556000" y="2924280"/>
              <a:ext cx="12232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Line 12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13"/>
          <p:cNvGrpSpPr/>
          <p:nvPr/>
        </p:nvGrpSpPr>
        <p:grpSpPr>
          <a:xfrm>
            <a:off x="1187280" y="2276640"/>
            <a:ext cx="1008000" cy="72720"/>
            <a:chOff x="1187280" y="2276640"/>
            <a:chExt cx="1008000" cy="72720"/>
          </a:xfrm>
        </p:grpSpPr>
        <p:sp>
          <p:nvSpPr>
            <p:cNvPr id="563" name="Line 14"/>
            <p:cNvSpPr/>
            <p:nvPr/>
          </p:nvSpPr>
          <p:spPr>
            <a:xfrm>
              <a:off x="1187280" y="2276640"/>
              <a:ext cx="1008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1187280" y="2349360"/>
              <a:ext cx="1008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Line 16"/>
          <p:cNvSpPr/>
          <p:nvPr/>
        </p:nvSpPr>
        <p:spPr>
          <a:xfrm>
            <a:off x="2195640" y="3500280"/>
            <a:ext cx="11509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Group 17"/>
          <p:cNvGrpSpPr/>
          <p:nvPr/>
        </p:nvGrpSpPr>
        <p:grpSpPr>
          <a:xfrm>
            <a:off x="971640" y="3500280"/>
            <a:ext cx="1007640" cy="73080"/>
            <a:chOff x="971640" y="3500280"/>
            <a:chExt cx="1007640" cy="73080"/>
          </a:xfrm>
        </p:grpSpPr>
        <p:sp>
          <p:nvSpPr>
            <p:cNvPr id="567" name="Line 18"/>
            <p:cNvSpPr/>
            <p:nvPr/>
          </p:nvSpPr>
          <p:spPr>
            <a:xfrm>
              <a:off x="971640" y="3500280"/>
              <a:ext cx="10076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>
              <a:off x="971640" y="3573360"/>
              <a:ext cx="10076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AutoShape 32"/>
          <p:cNvSpPr/>
          <p:nvPr/>
        </p:nvSpPr>
        <p:spPr>
          <a:xfrm>
            <a:off x="5219640" y="1844640"/>
            <a:ext cx="649440" cy="50472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4.07407E-006 L -0.23229 4.07407E-006 E">
                                      <p:cBhvr>
                                        <p:cTn id="2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7407E-006 L -0.16129 0.00533 E">
                                      <p:cBhvr>
                                        <p:cTn id="36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13385 4.07407E-006 E">
                                      <p:cBhvr>
                                        <p:cTn id="40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0.14966 4.07407E-006 E">
                                      <p:cBhvr>
                                        <p:cTn id="42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Верно 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17280" y="11970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япка – 3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оньки – 4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  <a:cs typeface="Times New Roman"/>
              </a:rPr>
              <a:t>ۥ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ай – 1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яхта – 2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лаз – 4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Arial"/>
              <a:buAutoNum type="arabicPeriod"/>
              <a:tabLst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ела – 2 звук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4859280" y="1844640"/>
            <a:ext cx="576360" cy="504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4859280" y="1197000"/>
            <a:ext cx="576360" cy="504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/>
          <p:cNvSpPr/>
          <p:nvPr/>
        </p:nvSpPr>
        <p:spPr>
          <a:xfrm>
            <a:off x="4859280" y="3068640"/>
            <a:ext cx="576360" cy="504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7"/>
          <p:cNvSpPr/>
          <p:nvPr/>
        </p:nvSpPr>
        <p:spPr>
          <a:xfrm>
            <a:off x="4859280" y="2492280"/>
            <a:ext cx="576360" cy="50508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8"/>
          <p:cNvSpPr/>
          <p:nvPr/>
        </p:nvSpPr>
        <p:spPr>
          <a:xfrm>
            <a:off x="4859280" y="4221000"/>
            <a:ext cx="576360" cy="5050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9"/>
          <p:cNvSpPr/>
          <p:nvPr/>
        </p:nvSpPr>
        <p:spPr>
          <a:xfrm>
            <a:off x="4859280" y="3645000"/>
            <a:ext cx="576360" cy="504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2"/>
          <p:cNvSpPr/>
          <p:nvPr/>
        </p:nvSpPr>
        <p:spPr>
          <a:xfrm>
            <a:off x="2995560" y="1328760"/>
            <a:ext cx="360360" cy="36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2340000" y="2670120"/>
            <a:ext cx="649440" cy="36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6588000" y="5335560"/>
            <a:ext cx="71928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6667560" y="4660920"/>
            <a:ext cx="720720" cy="36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234200" y="4038480"/>
            <a:ext cx="43344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6300720" y="2743200"/>
            <a:ext cx="422280" cy="3254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6510240" y="2060640"/>
            <a:ext cx="72072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387600" y="5411880"/>
            <a:ext cx="50328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2701800" y="4724280"/>
            <a:ext cx="576360" cy="287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2557440" y="4076640"/>
            <a:ext cx="719280" cy="289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2556000" y="2036880"/>
            <a:ext cx="288720" cy="287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йди оконч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06520" y="1197000"/>
            <a:ext cx="345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89000"/>
          </a:bodyPr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тетр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5400" indent="-2754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4933800" y="1197000"/>
            <a:ext cx="295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г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ж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ар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6730920" y="3390840"/>
            <a:ext cx="289080" cy="287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3060720" y="342900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8"/>
          <p:cNvSpPr/>
          <p:nvPr/>
        </p:nvSpPr>
        <p:spPr>
          <a:xfrm>
            <a:off x="755640" y="3357720"/>
            <a:ext cx="360360" cy="35856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19"/>
          <p:cNvSpPr/>
          <p:nvPr/>
        </p:nvSpPr>
        <p:spPr>
          <a:xfrm>
            <a:off x="4933800" y="1413000"/>
            <a:ext cx="360360" cy="35856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6840" y="1604520"/>
            <a:ext cx="822636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round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lck.ru/3rPQq</a:t>
            </a: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 шабл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Автор: Алексашина О.В. Учитель начальных классов НОУ ЦО «Татьянинская школа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г. Москв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642960" y="4286160"/>
            <a:ext cx="7561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айт: «Школа АБВ»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http://www.shkola-abv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Helen</cp:lastModifiedBy>
  <dcterms:modified xsi:type="dcterms:W3CDTF">2012-10-28T06:43:40Z</dcterms:modified>
  <cp:revision>17</cp:revision>
  <dc:subject/>
  <dc:title>PowerPoint Presentation</dc:title>
</cp:coreProperties>
</file>