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png" ContentType="image/png"/>
  <Override PartName="/ppt/media/image23.jpeg" ContentType="image/jpeg"/>
  <Override PartName="/ppt/media/image20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35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9B5F-2A3A-4BC6-8B45-43940CE3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5E30-E863-4A22-81DC-E54D19CC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DB22-C8A4-47C4-9497-E22826B8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33CC-D0F6-4593-A86B-BD286049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426D-5DE5-4B8D-8AC9-E93DCF84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10C5-D5F4-4269-A502-D8B76EED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F98B-1BEA-4EF4-BE6F-D47889E8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9C17-683D-4526-BB0D-5E5BBB29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662C-1CC7-4976-9B70-0015F9FC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091B-054A-4F92-B842-DB14E7ED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4CC0-0BE3-40FF-A5D2-14CA425C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90B3-61B1-497C-8577-729993E3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6D88-50DE-497C-AF5F-403DF055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9F43-26ED-40F7-AB99-6FC17877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82EC-C011-4D88-A73C-14C0B57B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160E-9831-4231-AC98-6E659FE9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20B0-453E-4C05-9685-DF2FBB9C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97C2-74F2-4916-A7B5-0A9D77AC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F4CA-E546-4F6F-87F4-A0C28862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2003-5B71-430D-B90E-B2E8226C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DA3D-9503-4252-990A-05F0AD81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EAAD-8D43-4AF2-91AD-4F2E183C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9B01-042D-4613-A3D6-124C1624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F85B-BF16-4798-8483-F19CE7E7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660A-8A77-44CD-AEAA-41A0FF41E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клипарты\школа\27c29d078660.png"/>
          <p:cNvPicPr/>
          <p:nvPr/>
        </p:nvPicPr>
        <p:blipFill>
          <a:blip r:embed="rId3"/>
          <a:stretch/>
        </p:blipFill>
        <p:spPr>
          <a:xfrm>
            <a:off x="285840" y="0"/>
            <a:ext cx="8429400" cy="520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D:\клипарты\школа\b756a7739ab6.png"/>
          <p:cNvPicPr/>
          <p:nvPr/>
        </p:nvPicPr>
        <p:blipFill>
          <a:blip r:embed="rId4"/>
          <a:stretch/>
        </p:blipFill>
        <p:spPr>
          <a:xfrm>
            <a:off x="214200" y="4214880"/>
            <a:ext cx="1714680" cy="235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D:\клипарты\школа\Безимени-3.png"/>
          <p:cNvPicPr/>
          <p:nvPr/>
        </p:nvPicPr>
        <p:blipFill>
          <a:blip r:embed="rId5"/>
          <a:stretch/>
        </p:blipFill>
        <p:spPr>
          <a:xfrm>
            <a:off x="7143840" y="5214960"/>
            <a:ext cx="1571400" cy="14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Helen\Desktop\схемы\шаблоны мои\русский язык\2012-02-07_165936.jpg"/>
          <p:cNvPicPr/>
          <p:nvPr/>
        </p:nvPicPr>
        <p:blipFill>
          <a:blip r:embed="rId6"/>
          <a:stretch/>
        </p:blipFill>
        <p:spPr>
          <a:xfrm>
            <a:off x="3071880" y="5429160"/>
            <a:ext cx="2876400" cy="1255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BB7A-C874-4FC5-ADD4-3746B2E8D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1" descr=""/>
          <p:cNvPicPr/>
          <p:nvPr/>
        </p:nvPicPr>
        <p:blipFill>
          <a:blip r:embed="rId2"/>
          <a:stretch/>
        </p:blipFill>
        <p:spPr>
          <a:xfrm>
            <a:off x="725400" y="669960"/>
            <a:ext cx="7351920" cy="132408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2" descr=""/>
          <p:cNvPicPr/>
          <p:nvPr/>
        </p:nvPicPr>
        <p:blipFill>
          <a:blip r:embed="rId3"/>
          <a:stretch/>
        </p:blipFill>
        <p:spPr>
          <a:xfrm>
            <a:off x="4548240" y="3371760"/>
            <a:ext cx="19018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D:\2 класс рабочая папка\русский язык\скриншоны\2012-09-14_230543.jpg"/>
          <p:cNvPicPr/>
          <p:nvPr/>
        </p:nvPicPr>
        <p:blipFill>
          <a:blip r:embed="rId2"/>
          <a:stretch/>
        </p:blipFill>
        <p:spPr>
          <a:xfrm>
            <a:off x="785880" y="331920"/>
            <a:ext cx="7715160" cy="6081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D:\2 класс рабочая папка\русский язык\скриншоны\2012-09-14_230620.jpg"/>
          <p:cNvPicPr/>
          <p:nvPr/>
        </p:nvPicPr>
        <p:blipFill>
          <a:blip r:embed="rId2"/>
          <a:stretch/>
        </p:blipFill>
        <p:spPr>
          <a:xfrm>
            <a:off x="571680" y="274680"/>
            <a:ext cx="7929360" cy="6251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1" descr=""/>
          <p:cNvPicPr/>
          <p:nvPr/>
        </p:nvPicPr>
        <p:blipFill>
          <a:blip r:embed="rId2"/>
          <a:stretch/>
        </p:blipFill>
        <p:spPr>
          <a:xfrm>
            <a:off x="1974960" y="5589720"/>
            <a:ext cx="2712960" cy="115236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2" descr=""/>
          <p:cNvPicPr/>
          <p:nvPr/>
        </p:nvPicPr>
        <p:blipFill>
          <a:blip r:embed="rId3"/>
          <a:stretch/>
        </p:blipFill>
        <p:spPr>
          <a:xfrm>
            <a:off x="5761080" y="5589720"/>
            <a:ext cx="2712960" cy="1152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D:\2 класс рабочая папка\русский язык\скриншоны\2012-09-15_081617.jpg"/>
          <p:cNvPicPr/>
          <p:nvPr/>
        </p:nvPicPr>
        <p:blipFill>
          <a:blip r:embed="rId2"/>
          <a:stretch/>
        </p:blipFill>
        <p:spPr>
          <a:xfrm>
            <a:off x="884160" y="4761000"/>
            <a:ext cx="6948720" cy="19144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585360" y="2000160"/>
            <a:ext cx="788904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Подлежаще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сказуемо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главные ч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предложени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Они составля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грамматическую основу пред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Записанный звук" descr=""/>
          <p:cNvPicPr/>
          <p:nvPr/>
        </p:nvPicPr>
        <p:blipFill>
          <a:blip r:embed="rId3"/>
          <a:stretch/>
        </p:blipFill>
        <p:spPr>
          <a:xfrm>
            <a:off x="8101080" y="692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200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Прямоугольник 1" descr=""/>
          <p:cNvPicPr/>
          <p:nvPr/>
        </p:nvPicPr>
        <p:blipFill>
          <a:blip r:embed="rId2"/>
          <a:stretch/>
        </p:blipFill>
        <p:spPr>
          <a:xfrm>
            <a:off x="1517760" y="549360"/>
            <a:ext cx="5979960" cy="138276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2" descr=""/>
          <p:cNvPicPr/>
          <p:nvPr/>
        </p:nvPicPr>
        <p:blipFill>
          <a:blip r:embed="rId3"/>
          <a:stretch/>
        </p:blipFill>
        <p:spPr>
          <a:xfrm>
            <a:off x="1841400" y="2908440"/>
            <a:ext cx="4961160" cy="1382400"/>
          </a:xfrm>
          <a:prstGeom prst="rect">
            <a:avLst/>
          </a:prstGeom>
          <a:ln w="0">
            <a:noFill/>
          </a:ln>
        </p:spPr>
      </p:pic>
      <p:sp>
        <p:nvSpPr>
          <p:cNvPr id="116" name="Минус 3"/>
          <p:cNvSpPr/>
          <p:nvPr/>
        </p:nvSpPr>
        <p:spPr>
          <a:xfrm rot="17978400">
            <a:off x="5091120" y="590040"/>
            <a:ext cx="500040" cy="500040"/>
          </a:xfrm>
          <a:custGeom>
            <a:avLst/>
            <a:gdLst>
              <a:gd name="textAreaLeft" fmla="*/ 66240 w 500040"/>
              <a:gd name="textAreaRight" fmla="*/ 433800 w 500040"/>
              <a:gd name="textAreaTop" fmla="*/ 191160 h 500040"/>
              <a:gd name="textAreaBottom" fmla="*/ 308880 h 500040"/>
            </a:gdLst>
            <a:ahLst/>
            <a:rect l="textAreaLeft" t="textAreaTop" r="textAreaRight" b="textAreaBottom"/>
            <a:pathLst>
              <a:path w="500063" h="500062">
                <a:moveTo>
                  <a:pt x="66283" y="191224"/>
                </a:moveTo>
                <a:lnTo>
                  <a:pt x="433780" y="191224"/>
                </a:lnTo>
                <a:lnTo>
                  <a:pt x="433780" y="308838"/>
                </a:lnTo>
                <a:lnTo>
                  <a:pt x="66283" y="30883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инус 4"/>
          <p:cNvSpPr/>
          <p:nvPr/>
        </p:nvSpPr>
        <p:spPr>
          <a:xfrm rot="17978400">
            <a:off x="4091040" y="2947680"/>
            <a:ext cx="500040" cy="500040"/>
          </a:xfrm>
          <a:custGeom>
            <a:avLst/>
            <a:gdLst>
              <a:gd name="textAreaLeft" fmla="*/ 66240 w 500040"/>
              <a:gd name="textAreaRight" fmla="*/ 433800 w 500040"/>
              <a:gd name="textAreaTop" fmla="*/ 191160 h 500040"/>
              <a:gd name="textAreaBottom" fmla="*/ 308880 h 500040"/>
            </a:gdLst>
            <a:ahLst/>
            <a:rect l="textAreaLeft" t="textAreaTop" r="textAreaRight" b="textAreaBottom"/>
            <a:pathLst>
              <a:path w="500062" h="500062">
                <a:moveTo>
                  <a:pt x="66283" y="191224"/>
                </a:moveTo>
                <a:lnTo>
                  <a:pt x="433779" y="191224"/>
                </a:lnTo>
                <a:lnTo>
                  <a:pt x="433779" y="308838"/>
                </a:lnTo>
                <a:lnTo>
                  <a:pt x="66283" y="30883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D:\клипарты\школа\77864371_7159fae7396b.png"/>
          <p:cNvPicPr/>
          <p:nvPr/>
        </p:nvPicPr>
        <p:blipFill>
          <a:blip r:embed="rId4"/>
          <a:stretch/>
        </p:blipFill>
        <p:spPr>
          <a:xfrm>
            <a:off x="214200" y="3857760"/>
            <a:ext cx="2152800" cy="2705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928800" y="1643040"/>
            <a:ext cx="7429320" cy="466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Осень наступила.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Высохли цветы.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И глядят уныло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Голые кусты.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1258200" y="428760"/>
            <a:ext cx="676728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пиши, подчеркни главные члены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инус 3"/>
          <p:cNvSpPr/>
          <p:nvPr/>
        </p:nvSpPr>
        <p:spPr>
          <a:xfrm>
            <a:off x="857160" y="2428920"/>
            <a:ext cx="2643120" cy="285840"/>
          </a:xfrm>
          <a:custGeom>
            <a:avLst/>
            <a:gdLst>
              <a:gd name="textAreaLeft" fmla="*/ 350280 w 2643120"/>
              <a:gd name="textAreaRight" fmla="*/ 2292840 w 2643120"/>
              <a:gd name="textAreaTop" fmla="*/ 109440 h 285840"/>
              <a:gd name="textAreaBottom" fmla="*/ 176400 h 285840"/>
            </a:gdLst>
            <a:ahLst/>
            <a:rect l="textAreaLeft" t="textAreaTop" r="textAreaRight" b="textAreaBottom"/>
            <a:pathLst>
              <a:path w="2643188" h="285750">
                <a:moveTo>
                  <a:pt x="350354" y="109271"/>
                </a:moveTo>
                <a:lnTo>
                  <a:pt x="2292834" y="109271"/>
                </a:lnTo>
                <a:lnTo>
                  <a:pt x="2292834" y="176479"/>
                </a:lnTo>
                <a:lnTo>
                  <a:pt x="350354" y="17647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инус 4"/>
          <p:cNvSpPr/>
          <p:nvPr/>
        </p:nvSpPr>
        <p:spPr>
          <a:xfrm>
            <a:off x="3929040" y="3286080"/>
            <a:ext cx="2643120" cy="285840"/>
          </a:xfrm>
          <a:custGeom>
            <a:avLst/>
            <a:gdLst>
              <a:gd name="textAreaLeft" fmla="*/ 350280 w 2643120"/>
              <a:gd name="textAreaRight" fmla="*/ 2292840 w 2643120"/>
              <a:gd name="textAreaTop" fmla="*/ 109440 h 285840"/>
              <a:gd name="textAreaBottom" fmla="*/ 176400 h 285840"/>
            </a:gdLst>
            <a:ahLst/>
            <a:rect l="textAreaLeft" t="textAreaTop" r="textAreaRight" b="textAreaBottom"/>
            <a:pathLst>
              <a:path w="2643187" h="285750">
                <a:moveTo>
                  <a:pt x="350354" y="109271"/>
                </a:moveTo>
                <a:lnTo>
                  <a:pt x="2292833" y="109271"/>
                </a:lnTo>
                <a:lnTo>
                  <a:pt x="2292833" y="176479"/>
                </a:lnTo>
                <a:lnTo>
                  <a:pt x="350354" y="17647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инус 5"/>
          <p:cNvSpPr/>
          <p:nvPr/>
        </p:nvSpPr>
        <p:spPr>
          <a:xfrm>
            <a:off x="2928960" y="2357280"/>
            <a:ext cx="4214880" cy="357480"/>
          </a:xfrm>
          <a:custGeom>
            <a:avLst/>
            <a:gdLst>
              <a:gd name="textAreaLeft" fmla="*/ 558720 w 4214880"/>
              <a:gd name="textAreaRight" fmla="*/ 3656160 w 4214880"/>
              <a:gd name="textAreaTop" fmla="*/ 136800 h 357480"/>
              <a:gd name="textAreaBottom" fmla="*/ 220680 h 357480"/>
            </a:gdLst>
            <a:ahLst/>
            <a:rect l="textAreaLeft" t="textAreaTop" r="textAreaRight" b="textAreaBottom"/>
            <a:pathLst>
              <a:path w="4214812" h="357187">
                <a:moveTo>
                  <a:pt x="558673" y="136588"/>
                </a:moveTo>
                <a:lnTo>
                  <a:pt x="3656139" y="136588"/>
                </a:lnTo>
                <a:lnTo>
                  <a:pt x="3656139" y="220599"/>
                </a:lnTo>
                <a:lnTo>
                  <a:pt x="558673" y="22059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инус 6"/>
          <p:cNvSpPr/>
          <p:nvPr/>
        </p:nvSpPr>
        <p:spPr>
          <a:xfrm>
            <a:off x="2928960" y="5143680"/>
            <a:ext cx="2643120" cy="285480"/>
          </a:xfrm>
          <a:custGeom>
            <a:avLst/>
            <a:gdLst>
              <a:gd name="textAreaLeft" fmla="*/ 350280 w 2643120"/>
              <a:gd name="textAreaRight" fmla="*/ 2292840 w 2643120"/>
              <a:gd name="textAreaTop" fmla="*/ 109080 h 285480"/>
              <a:gd name="textAreaBottom" fmla="*/ 176400 h 285480"/>
            </a:gdLst>
            <a:ahLst/>
            <a:rect l="textAreaLeft" t="textAreaTop" r="textAreaRight" b="textAreaBottom"/>
            <a:pathLst>
              <a:path w="2643187" h="285750">
                <a:moveTo>
                  <a:pt x="350354" y="109271"/>
                </a:moveTo>
                <a:lnTo>
                  <a:pt x="2292833" y="109271"/>
                </a:lnTo>
                <a:lnTo>
                  <a:pt x="2292833" y="176479"/>
                </a:lnTo>
                <a:lnTo>
                  <a:pt x="350354" y="17647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инус 7"/>
          <p:cNvSpPr/>
          <p:nvPr/>
        </p:nvSpPr>
        <p:spPr>
          <a:xfrm>
            <a:off x="2928960" y="2571840"/>
            <a:ext cx="4214880" cy="357120"/>
          </a:xfrm>
          <a:custGeom>
            <a:avLst/>
            <a:gdLst>
              <a:gd name="textAreaLeft" fmla="*/ 558720 w 4214880"/>
              <a:gd name="textAreaRight" fmla="*/ 3656160 w 4214880"/>
              <a:gd name="textAreaTop" fmla="*/ 136440 h 357120"/>
              <a:gd name="textAreaBottom" fmla="*/ 220680 h 357120"/>
            </a:gdLst>
            <a:ahLst/>
            <a:rect l="textAreaLeft" t="textAreaTop" r="textAreaRight" b="textAreaBottom"/>
            <a:pathLst>
              <a:path w="4214812" h="357188">
                <a:moveTo>
                  <a:pt x="558673" y="136589"/>
                </a:moveTo>
                <a:lnTo>
                  <a:pt x="3656139" y="136589"/>
                </a:lnTo>
                <a:lnTo>
                  <a:pt x="3656139" y="220599"/>
                </a:lnTo>
                <a:lnTo>
                  <a:pt x="558673" y="22059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инус 8"/>
          <p:cNvSpPr/>
          <p:nvPr/>
        </p:nvSpPr>
        <p:spPr>
          <a:xfrm>
            <a:off x="500040" y="3286080"/>
            <a:ext cx="3929040" cy="357120"/>
          </a:xfrm>
          <a:custGeom>
            <a:avLst/>
            <a:gdLst>
              <a:gd name="textAreaLeft" fmla="*/ 520560 w 3929040"/>
              <a:gd name="textAreaRight" fmla="*/ 3408480 w 3929040"/>
              <a:gd name="textAreaTop" fmla="*/ 136440 h 357120"/>
              <a:gd name="textAreaBottom" fmla="*/ 220680 h 357120"/>
            </a:gdLst>
            <a:ahLst/>
            <a:rect l="textAreaLeft" t="textAreaTop" r="textAreaRight" b="textAreaBottom"/>
            <a:pathLst>
              <a:path w="3929062" h="357188">
                <a:moveTo>
                  <a:pt x="520797" y="136589"/>
                </a:moveTo>
                <a:lnTo>
                  <a:pt x="3408265" y="136589"/>
                </a:lnTo>
                <a:lnTo>
                  <a:pt x="3408265" y="220599"/>
                </a:lnTo>
                <a:lnTo>
                  <a:pt x="520797" y="22059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инус 9"/>
          <p:cNvSpPr/>
          <p:nvPr/>
        </p:nvSpPr>
        <p:spPr>
          <a:xfrm>
            <a:off x="500040" y="3500280"/>
            <a:ext cx="3929040" cy="357480"/>
          </a:xfrm>
          <a:custGeom>
            <a:avLst/>
            <a:gdLst>
              <a:gd name="textAreaLeft" fmla="*/ 520560 w 3929040"/>
              <a:gd name="textAreaRight" fmla="*/ 3408480 w 3929040"/>
              <a:gd name="textAreaTop" fmla="*/ 136800 h 357480"/>
              <a:gd name="textAreaBottom" fmla="*/ 220680 h 357480"/>
            </a:gdLst>
            <a:ahLst/>
            <a:rect l="textAreaLeft" t="textAreaTop" r="textAreaRight" b="textAreaBottom"/>
            <a:pathLst>
              <a:path w="3929062" h="357187">
                <a:moveTo>
                  <a:pt x="520797" y="136588"/>
                </a:moveTo>
                <a:lnTo>
                  <a:pt x="3408265" y="136588"/>
                </a:lnTo>
                <a:lnTo>
                  <a:pt x="3408265" y="220599"/>
                </a:lnTo>
                <a:lnTo>
                  <a:pt x="520797" y="22059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инус 10"/>
          <p:cNvSpPr/>
          <p:nvPr/>
        </p:nvSpPr>
        <p:spPr>
          <a:xfrm>
            <a:off x="1357200" y="4143240"/>
            <a:ext cx="3000600" cy="357480"/>
          </a:xfrm>
          <a:custGeom>
            <a:avLst/>
            <a:gdLst>
              <a:gd name="textAreaLeft" fmla="*/ 397440 w 3000600"/>
              <a:gd name="textAreaRight" fmla="*/ 2603160 w 3000600"/>
              <a:gd name="textAreaTop" fmla="*/ 136800 h 357480"/>
              <a:gd name="textAreaBottom" fmla="*/ 220680 h 357480"/>
            </a:gdLst>
            <a:ahLst/>
            <a:rect l="textAreaLeft" t="textAreaTop" r="textAreaRight" b="textAreaBottom"/>
            <a:pathLst>
              <a:path w="3000375" h="357188">
                <a:moveTo>
                  <a:pt x="397700" y="136589"/>
                </a:moveTo>
                <a:lnTo>
                  <a:pt x="2602675" y="136589"/>
                </a:lnTo>
                <a:lnTo>
                  <a:pt x="2602675" y="220599"/>
                </a:lnTo>
                <a:lnTo>
                  <a:pt x="397700" y="22059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инус 11"/>
          <p:cNvSpPr/>
          <p:nvPr/>
        </p:nvSpPr>
        <p:spPr>
          <a:xfrm>
            <a:off x="1357200" y="4286160"/>
            <a:ext cx="3000600" cy="357120"/>
          </a:xfrm>
          <a:custGeom>
            <a:avLst/>
            <a:gdLst>
              <a:gd name="textAreaLeft" fmla="*/ 397440 w 3000600"/>
              <a:gd name="textAreaRight" fmla="*/ 2603160 w 3000600"/>
              <a:gd name="textAreaTop" fmla="*/ 136440 h 357120"/>
              <a:gd name="textAreaBottom" fmla="*/ 220680 h 357120"/>
            </a:gdLst>
            <a:ahLst/>
            <a:rect l="textAreaLeft" t="textAreaTop" r="textAreaRight" b="textAreaBottom"/>
            <a:pathLst>
              <a:path w="3000375" h="357188">
                <a:moveTo>
                  <a:pt x="397700" y="136589"/>
                </a:moveTo>
                <a:lnTo>
                  <a:pt x="2602675" y="136589"/>
                </a:lnTo>
                <a:lnTo>
                  <a:pt x="2602675" y="220599"/>
                </a:lnTo>
                <a:lnTo>
                  <a:pt x="397700" y="22059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2"/>
          <p:cNvSpPr/>
          <p:nvPr/>
        </p:nvSpPr>
        <p:spPr>
          <a:xfrm>
            <a:off x="5725800" y="6000840"/>
            <a:ext cx="29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ксей Плеще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Записанный звук" descr=""/>
          <p:cNvPicPr/>
          <p:nvPr/>
        </p:nvPicPr>
        <p:blipFill>
          <a:blip r:embed="rId2"/>
          <a:stretch/>
        </p:blipFill>
        <p:spPr>
          <a:xfrm>
            <a:off x="8172360" y="76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6000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12120" y="359280"/>
            <a:ext cx="78069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йди в этом квадрате как можно больше слов. Буквы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овах должны быть соединены лин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12" descr="Найди как можно больше слов"/>
          <p:cNvPicPr/>
          <p:nvPr/>
        </p:nvPicPr>
        <p:blipFill>
          <a:blip r:embed="rId2"/>
          <a:stretch/>
        </p:blipFill>
        <p:spPr>
          <a:xfrm>
            <a:off x="1357200" y="1714680"/>
            <a:ext cx="6499440" cy="4538520"/>
          </a:xfrm>
          <a:prstGeom prst="rect">
            <a:avLst/>
          </a:prstGeom>
          <a:ln w="0">
            <a:noFill/>
          </a:ln>
        </p:spPr>
      </p:pic>
      <p:pic>
        <p:nvPicPr>
          <p:cNvPr id="134" name="Записанный звук" descr=""/>
          <p:cNvPicPr/>
          <p:nvPr/>
        </p:nvPicPr>
        <p:blipFill>
          <a:blip r:embed="rId3"/>
          <a:stretch/>
        </p:blipFill>
        <p:spPr>
          <a:xfrm>
            <a:off x="8172360" y="83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9000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Прямоугольник 2" descr=""/>
          <p:cNvPicPr/>
          <p:nvPr/>
        </p:nvPicPr>
        <p:blipFill>
          <a:blip r:embed="rId2"/>
          <a:stretch/>
        </p:blipFill>
        <p:spPr>
          <a:xfrm>
            <a:off x="2987640" y="5157720"/>
            <a:ext cx="2760840" cy="1150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:\2 класс рабочая папка\русский язык\шаблоны\диск русский язык.jpg"/>
          <p:cNvPicPr/>
          <p:nvPr/>
        </p:nvPicPr>
        <p:blipFill>
          <a:blip r:embed="rId3"/>
          <a:stretch/>
        </p:blipFill>
        <p:spPr>
          <a:xfrm>
            <a:off x="5273640" y="1444680"/>
            <a:ext cx="2943360" cy="3870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4"/>
          <p:cNvSpPr/>
          <p:nvPr/>
        </p:nvSpPr>
        <p:spPr>
          <a:xfrm>
            <a:off x="4800600" y="4500720"/>
            <a:ext cx="35701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аботаем дома с диск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785520" y="214200"/>
            <a:ext cx="49219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Что нового узнали о предлож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Что такое подлежащ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Что такое сказуем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D:\2 класс рабочая папка\русский язык\чистописание\обр1.jpg"/>
          <p:cNvPicPr/>
          <p:nvPr/>
        </p:nvPicPr>
        <p:blipFill>
          <a:blip r:embed="rId2"/>
          <a:stretch/>
        </p:blipFill>
        <p:spPr>
          <a:xfrm>
            <a:off x="171360" y="244440"/>
            <a:ext cx="5516640" cy="64483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D:\2 класс рабочая папка\русский язык\чистописание\обр3.jpg"/>
          <p:cNvPicPr/>
          <p:nvPr/>
        </p:nvPicPr>
        <p:blipFill>
          <a:blip r:embed="rId2"/>
          <a:stretch/>
        </p:blipFill>
        <p:spPr>
          <a:xfrm>
            <a:off x="244440" y="189000"/>
            <a:ext cx="6023160" cy="628488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6517080" y="500040"/>
            <a:ext cx="21816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аботаем с  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714240" y="285840"/>
            <a:ext cx="7929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предели количество букв , звуков и слогов  в сло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Прямоугольник 2" descr=""/>
          <p:cNvPicPr/>
          <p:nvPr/>
        </p:nvPicPr>
        <p:blipFill>
          <a:blip r:embed="rId2"/>
          <a:stretch/>
        </p:blipFill>
        <p:spPr>
          <a:xfrm>
            <a:off x="353880" y="1305000"/>
            <a:ext cx="3741840" cy="115236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3" descr=""/>
          <p:cNvPicPr/>
          <p:nvPr/>
        </p:nvPicPr>
        <p:blipFill>
          <a:blip r:embed="rId3"/>
          <a:stretch/>
        </p:blipFill>
        <p:spPr>
          <a:xfrm>
            <a:off x="353880" y="2871720"/>
            <a:ext cx="3432240" cy="115092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4" descr=""/>
          <p:cNvPicPr/>
          <p:nvPr/>
        </p:nvPicPr>
        <p:blipFill>
          <a:blip r:embed="rId4"/>
          <a:stretch/>
        </p:blipFill>
        <p:spPr>
          <a:xfrm>
            <a:off x="360360" y="4443480"/>
            <a:ext cx="3479760" cy="115236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4368240" y="1500120"/>
            <a:ext cx="30762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 букв, 6 зву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 сл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368240" y="2928960"/>
            <a:ext cx="30762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 букв, 7 зву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 сл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4368240" y="4572000"/>
            <a:ext cx="30762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 букв, 5 зву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 сл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Записанный звук" descr=""/>
          <p:cNvPicPr/>
          <p:nvPr/>
        </p:nvPicPr>
        <p:blipFill>
          <a:blip r:embed="rId5"/>
          <a:stretch/>
        </p:blipFill>
        <p:spPr>
          <a:xfrm>
            <a:off x="7812000" y="98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714240" y="428760"/>
            <a:ext cx="51530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оставь предложения из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457920" y="1214280"/>
            <a:ext cx="608148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Золотая, наступила, осе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357120" y="1214280"/>
            <a:ext cx="716760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Наступила золотая  осе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250920" y="2276640"/>
            <a:ext cx="871380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По опушкам лесов растут гриб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D:\клипарты\грибы\370bfa835f23.png"/>
          <p:cNvPicPr/>
          <p:nvPr/>
        </p:nvPicPr>
        <p:blipFill>
          <a:blip r:embed="rId2"/>
          <a:stretch/>
        </p:blipFill>
        <p:spPr>
          <a:xfrm>
            <a:off x="6672240" y="4386240"/>
            <a:ext cx="2471760" cy="2471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http://s58.radikal.ru/i161/1008/62/dc0bb01853a0.jpg"/>
          <p:cNvPicPr/>
          <p:nvPr/>
        </p:nvPicPr>
        <p:blipFill>
          <a:blip r:embed="rId3"/>
          <a:stretch/>
        </p:blipFill>
        <p:spPr>
          <a:xfrm>
            <a:off x="357120" y="4357800"/>
            <a:ext cx="2762280" cy="2286000"/>
          </a:xfrm>
          <a:prstGeom prst="rect">
            <a:avLst/>
          </a:prstGeom>
          <a:ln w="0">
            <a:noFill/>
          </a:ln>
        </p:spPr>
      </p:pic>
      <p:pic>
        <p:nvPicPr>
          <p:cNvPr id="105" name="Записанный звук" descr=""/>
          <p:cNvPicPr/>
          <p:nvPr/>
        </p:nvPicPr>
        <p:blipFill>
          <a:blip r:embed="rId4"/>
          <a:stretch/>
        </p:blipFill>
        <p:spPr>
          <a:xfrm>
            <a:off x="6300720" y="549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6"/>
          <p:cNvSpPr/>
          <p:nvPr/>
        </p:nvSpPr>
        <p:spPr>
          <a:xfrm>
            <a:off x="324000" y="3429000"/>
            <a:ext cx="882000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В лесу краснеют гроздья ряб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00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0:35:28Z</dcterms:created>
  <dc:creator>Helen</dc:creator>
  <dc:description/>
  <dc:language>en-US</dc:language>
  <cp:lastModifiedBy>Boris</cp:lastModifiedBy>
  <dcterms:modified xsi:type="dcterms:W3CDTF">2012-09-16T06:14:02Z</dcterms:modified>
  <cp:revision>29</cp:revision>
  <dc:subject/>
  <dc:title>Слайд 1</dc:title>
</cp:coreProperties>
</file>