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EC4-D71F-4D64-9C50-F933E29354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шенная помощь, услуга, которая приносит больше вреда, чем поль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8E8-3158-4AC9-991A-A1D8A0B530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 очень высокого человека, верзилу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98F8-6B89-470A-9003-939A5B642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ывать, вводить в заблуждение, обещать и не выполнять обеща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A9F0-E1CD-4F74-8C8E-5748021FE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говорят, когда человек очень испуг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3F0B-A577-4DEE-9EBB-19C6AC6E55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в чем дело, именно в этом истинная при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2DA-3BC4-49D8-8631-79FC3030D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, гам, беспорядок, сумат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415-B2D1-4F85-840A-8915096CB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о кричать или плак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21A-7E8C-4908-AE07-E1B6AF345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, что порождает конфликт, серьезные противоре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E93B-30B4-487B-A80A-5135DEAFC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ь крепко-накрепко, раз на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353-10B8-47B3-94CA-ABEB5915F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6C2-7223-44A9-A39C-204094E6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E30-4608-43DF-BCDF-891E1E0F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87E-973A-4A36-95D2-7D0C8FDA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0DF-6774-4330-B0FB-0BA54251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C79-18B1-4747-915F-CA72CFA6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6795-46CC-4938-A88D-E62BAA5B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416-B1A9-4688-AD89-FB20024D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35E2-2B4F-40C9-A36D-075004F8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63CC-DEED-4849-957C-9C079BB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DB7B-3BA4-4F57-951D-F0F3CF56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464-F439-4D37-B8FE-3A7A8E6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354-3204-45EA-BC71-762AFD6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8EB6-7D95-4FDD-ADAD-B0A8EAE4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9F1A-7A20-46CE-A04C-76D7C10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B97-9E80-40C9-9676-E2DA85F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2539-36D9-4C5D-9C88-C1C43FB4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9A2-8FB0-4DC0-B003-F852579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3692-CEF6-48B8-95B8-97C851C3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596D-7AB4-4ACA-872A-2415FD0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1006-0975-4642-9FBE-27204DD8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7657-7C4D-4BF1-9E31-ED41F5D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668A-309D-4E0E-A443-FA6075EF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DAD-52F0-45B5-AAC2-88972C1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E3E5-3440-4798-8F7A-AC78813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FDFF-A2B1-4153-A5EE-14FF28F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BDB4-4554-4096-8BB1-65AD3661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3C09-D52B-4729-95C7-381BA32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1114-3E31-490F-8CFE-7E0CF288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3020-C39C-42A0-B88E-71C6937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E92D-A9B2-4D2F-8E89-CEEF0953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3DA6-9DB8-4FD0-8D8B-53FFF1C2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5D70-04F4-44E7-B68A-6055E6B7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0169-9163-4AA1-A411-12E55530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0DE-75A3-489F-AB55-30B9D0A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E4B4-2DEE-4463-9747-024D7268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B771-4E3E-40AA-AA92-E7CFD89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CA77-2474-43DA-8C2A-BCD0E131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B740-7566-46E6-9D93-529A574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EF42-A347-46E9-ABA4-DDB5848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8E62-A63A-44DB-B59A-867DFB1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8043-36C0-453F-AFCA-49F8F5EB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85F1-F8D6-4EF7-88CB-B6C16B75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F270-9721-46D4-B549-989C2283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44D6-9947-407F-9F9D-1F958536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614-5FDA-4E9B-8217-3A6903BF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E7C3-F573-44F8-9510-984F55C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537C-EAA0-435D-B7C7-B40213AC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9E21-4B4A-4084-9A95-9B7F361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2F157-C343-47CB-9B8A-FA72659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13E1-7E7D-4C21-9883-AE8E6FDF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E040-DD20-415A-9AA7-A476316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E7AC-0B54-417E-AB97-200FDFF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9A90-7261-4403-BA67-2672B15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B3DD-899E-4404-AE74-097C93C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95ED-2ED2-43B5-960A-C76EF981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5C9-8820-4CAA-A3DD-00A74B2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8DC7-7804-451C-8D12-829BD9FA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E33-DF67-4E9F-B8B1-AE3F6DF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697-6D62-473E-AF5C-60EE85F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452-5186-4ABD-BF3A-0587FF8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ADB5-63B0-4A35-AEB5-72BC143FFCD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963F-49D3-4B66-98A9-471167AAD75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06F-AFB4-4536-BD97-BDAB112B2E6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6B3F-6586-49BE-8CB3-769320809AB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62E-FF52-4EFF-BD93-3995895F390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voyrebenok.ru/frazeologizmy-dlya-detey.s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hkola-abv.ru/" TargetMode="External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692280"/>
            <a:ext cx="8183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Урок русского языка по теме</a:t>
            </a:r>
            <a:br>
              <a:rPr sz="6000"/>
            </a:br>
            <a:r>
              <a:rPr b="1" lang="ru-RU" sz="5400" spc="-1" strike="noStrike">
                <a:solidFill>
                  <a:srgbClr val="f07f09"/>
                </a:solidFill>
                <a:latin typeface="Verdana"/>
              </a:rPr>
              <a:t>«Фразеологизмы»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2060"/>
                </a:solidFill>
                <a:latin typeface="Verdana"/>
              </a:rPr>
              <a:t>4 </a:t>
            </a: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класс</a:t>
            </a: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УМК «Образовательная система Л.В. Занков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Медвежья услу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Picture 2" descr="C:\Users\Natasha\Documents\26.jpg"/>
          <p:cNvPicPr/>
          <p:nvPr/>
        </p:nvPicPr>
        <p:blipFill>
          <a:blip r:embed="rId1"/>
          <a:stretch/>
        </p:blipFill>
        <p:spPr>
          <a:xfrm>
            <a:off x="3348000" y="263700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900000" y="1413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прошенная помощь, услуга, которая приносит больше вреда, чем польз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183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Ресурс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1332000" y="1989000"/>
            <a:ext cx="5526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tvoyrebenok.ru/frazeologizmy-dlya-detey.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1868400" y="4508640"/>
            <a:ext cx="4926240" cy="119124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Сайт: «Школа АБВ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Verdana"/>
              </a:rPr>
              <a:t>http://shkola-abv.r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1763640" y="3502080"/>
            <a:ext cx="511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йдакова Наталья Витальевна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ОУ «Средняя общеобразовательная школа № 119» г.Пер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1835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Verdana"/>
              </a:rPr>
              <a:t>Автор: Байдакова Наталья Витальевна,</a:t>
            </a:r>
            <a:br>
              <a:rPr sz="2700"/>
            </a:b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читель начальных классов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АОУ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«Средняя общеобразовательная школа № 119» г.Перми</a:t>
            </a:r>
            <a:br>
              <a:rPr sz="2800"/>
            </a:br>
            <a:r>
              <a:rPr b="1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</a:t>
            </a:r>
            <a:r>
              <a:rPr b="1" lang="ru-RU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://</a:t>
            </a:r>
            <a:r>
              <a:rPr b="1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www.shkola-abv.ru</a:t>
            </a: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Верста коломенская</a:t>
            </a:r>
            <a:br>
              <a:rPr sz="32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2" descr="C:\Users\Natasha\Documents\6.jpg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258920" y="7650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ак называют очень высокого человека, верзилу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Водить за но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C:\Users\Natasha\Documents\7.jpg"/>
          <p:cNvPicPr/>
          <p:nvPr/>
        </p:nvPicPr>
        <p:blipFill>
          <a:blip r:embed="rId1"/>
          <a:stretch/>
        </p:blipFill>
        <p:spPr>
          <a:xfrm>
            <a:off x="3348000" y="2205000"/>
            <a:ext cx="2879640" cy="2736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1116000" y="112536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манывать, вводить в заблуждение, обещать и не выполнять обещан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96928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Волосы дыбо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2" descr="C:\Users\Natasha\Documents\8.jpg"/>
          <p:cNvPicPr/>
          <p:nvPr/>
        </p:nvPicPr>
        <p:blipFill>
          <a:blip r:embed="rId1"/>
          <a:stretch/>
        </p:blipFill>
        <p:spPr>
          <a:xfrm>
            <a:off x="3276720" y="1916280"/>
            <a:ext cx="2808000" cy="27367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1258920" y="1197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ак говорят, когда человек очень испугалс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Вот где собака зары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C:\Users\Natasha\Documents\9.jpg"/>
          <p:cNvPicPr/>
          <p:nvPr/>
        </p:nvPicPr>
        <p:blipFill>
          <a:blip r:embed="rId1"/>
          <a:stretch/>
        </p:blipFill>
        <p:spPr>
          <a:xfrm>
            <a:off x="3203640" y="198900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1547640" y="69228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от в чем дело, именно в этом истинная прич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Дым коромысло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2" descr="C:\Users\Natasha\Documents\21.jpg"/>
          <p:cNvPicPr/>
          <p:nvPr/>
        </p:nvPicPr>
        <p:blipFill>
          <a:blip r:embed="rId1"/>
          <a:stretch/>
        </p:blipFill>
        <p:spPr>
          <a:xfrm>
            <a:off x="3419640" y="2421000"/>
            <a:ext cx="2381040" cy="23810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"/>
          <p:cNvSpPr/>
          <p:nvPr/>
        </p:nvSpPr>
        <p:spPr>
          <a:xfrm>
            <a:off x="2268360" y="1197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ум, гам, беспорядок, суматох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Реветь белуго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Picture 2" descr="C:\Users\Natasha\Documents\29.jpg"/>
          <p:cNvPicPr/>
          <p:nvPr/>
        </p:nvPicPr>
        <p:blipFill>
          <a:blip r:embed="rId1"/>
          <a:stretch/>
        </p:blipFill>
        <p:spPr>
          <a:xfrm>
            <a:off x="3276720" y="220500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2268360" y="1341360"/>
            <a:ext cx="41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ромко кричать или плак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Яблоко раздо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2" descr="C:\Users\Natasha\Documents\30.jpg"/>
          <p:cNvPicPr/>
          <p:nvPr/>
        </p:nvPicPr>
        <p:blipFill>
          <a:blip r:embed="rId1"/>
          <a:stretch/>
        </p:blipFill>
        <p:spPr>
          <a:xfrm>
            <a:off x="3348000" y="22050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1187280" y="119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о, что порождает конфликт, серьезные противореч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Зарубить на но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Picture 2" descr="C:\Users\Natasha\Documents\24.jpg"/>
          <p:cNvPicPr/>
          <p:nvPr/>
        </p:nvPicPr>
        <p:blipFill>
          <a:blip r:embed="rId1"/>
          <a:stretch/>
        </p:blipFill>
        <p:spPr>
          <a:xfrm>
            <a:off x="3419640" y="2133720"/>
            <a:ext cx="2381040" cy="23810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1042920" y="1197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помнить крепко-накрепко, раз навсег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9:25:11Z</dcterms:created>
  <dc:creator>Natasha</dc:creator>
  <dc:description/>
  <dc:language>en-US</dc:language>
  <cp:lastModifiedBy>Boris</cp:lastModifiedBy>
  <dcterms:modified xsi:type="dcterms:W3CDTF">2013-10-10T17:37:01Z</dcterms:modified>
  <cp:revision>16</cp:revision>
  <dc:subject/>
  <dc:title>Слайд 1</dc:title>
</cp:coreProperties>
</file>