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FA6-9A32-40A9-B019-885A8B4D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924-894A-4121-A40C-E011B4D1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011-45F4-4984-9A54-6AF19900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C5E-4857-4630-AC23-09D90BF4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31A-1BDE-4DD2-81C6-E4C201CC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C20-27E4-4352-9A27-DD76FEC6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922-E575-4D5A-B75C-3DEB9AB7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962-7326-45C9-8B94-AEBC0474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51D-FDB6-47B8-8C99-17F08162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2FC-CD9B-4064-B9AF-5FCAE325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401-3FD5-491D-A263-253968C2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23F-00EC-46DC-B767-FC0B9EF1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31BD-1C8E-42FF-BC43-E08E829FF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50096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Конспект урока по развитию речи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(русский язык) 1 – 2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71600" y="5785920"/>
            <a:ext cx="47862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Разработан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учителем ГОУ СОШ № 19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Федотовой Галиной Гарри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DSC01034.JPG"/>
          <p:cNvPicPr/>
          <p:nvPr/>
        </p:nvPicPr>
        <p:blipFill>
          <a:blip r:embed="rId1"/>
          <a:stretch/>
        </p:blipFill>
        <p:spPr>
          <a:xfrm>
            <a:off x="401760" y="3633840"/>
            <a:ext cx="2408040" cy="59007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1566720" y="1590840"/>
            <a:ext cx="6870960" cy="19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45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Как выглядит червяк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Полоски на этом экземпляре не видны.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крашен червь в коричневый цвет. Но отливает он прекрасным фиолетовым цветом. На спине у него темные и светлые полосы.) 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76280" y="853920"/>
            <a:ext cx="8332920" cy="5888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357280" y="2571840"/>
            <a:ext cx="278640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3786120" y="1785960"/>
            <a:ext cx="2357640" cy="1643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984807"/>
                </a:solidFill>
                <a:latin typeface="Calibri"/>
              </a:rPr>
              <a:t>В чем особенности образа жизни этих животных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ивут чудесные малютки целыми семьями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 любит червячок показывать свой наряд. Выходит он на охоту по ночам. А ранним утром это животное прячется среди камней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097920" y="1600200"/>
            <a:ext cx="460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4"/>
          <a:stretch/>
        </p:blipFill>
        <p:spPr>
          <a:xfrm>
            <a:off x="500040" y="2000160"/>
            <a:ext cx="2214720" cy="1928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5"/>
          <a:stretch/>
        </p:blipFill>
        <p:spPr>
          <a:xfrm>
            <a:off x="5429160" y="2000160"/>
            <a:ext cx="3357720" cy="178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Вправе ли данная группа предложений называть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екстом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4000"/>
            </a:b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(Предложения на одну тему. И каждое следующее предложение продолжает предыдущее. Значит, мы читали текст.)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кие рекомендации вы можете дать одноклассникам, чтобы не нарушались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правила построения текста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3600"/>
            </a:b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(*    Перед записью предложения надо прочитать </a:t>
            </a: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предыдущее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**   Проверить наличие </a:t>
            </a: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грамматической основы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*** Не допускать </a:t>
            </a: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повторов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одних и тех же слов.)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7215120" y="1785960"/>
            <a:ext cx="164304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Calibri"/>
              </a:rPr>
              <a:t>Какие слова использует автор для названия этих животны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0" i="1" lang="en-US" sz="3200" spc="-1" strike="noStrike" u="sng">
                <a:solidFill>
                  <a:srgbClr val="002060"/>
                </a:solidFill>
                <a:uFillTx/>
                <a:latin typeface="Calibri"/>
              </a:rPr>
              <a:t>Червячок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– с иронией, удивление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2060"/>
                </a:solidFill>
                <a:uFillTx/>
                <a:latin typeface="Calibri"/>
              </a:rPr>
              <a:t>чудесные малютки 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– в переносном значе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2060"/>
                </a:solidFill>
                <a:uFillTx/>
                <a:latin typeface="Calibri"/>
              </a:rPr>
              <a:t>червь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– нейтрально, без выражения чувст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2060"/>
                </a:solidFill>
                <a:uFillTx/>
                <a:latin typeface="Calibri"/>
              </a:rPr>
              <a:t>особи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– научное наз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2060"/>
                </a:solidFill>
                <a:uFillTx/>
                <a:latin typeface="Calibri"/>
              </a:rPr>
              <a:t>он 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– слово, которое указывает на предмет, не называя его  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929280" y="5286240"/>
            <a:ext cx="200052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пираясь на текст, найдите слова, право-писание которых вы можете объясн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Безударные гласные в корне слова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б.р.гов, в дл.ну, до п.тнадцати, м.лютки, отл.вает, на сп.не, пол.сы, ч.рв.чок, по н.чам, среди к.мней, дост.га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Парные согласные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чер.ь, све., наря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Непроизносимые согласные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гиган(?)ских, извес(?)ны, чудес(?)ные, прекрас(?)ны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Безударные гласные в приставке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д.стигает, .крашен, .тливает, пр.красным, п.казывать, н.ряд, .хот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Двойная согласная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дли..ый, ра..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Безударные гласные, правописание которых следует запомнить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.тлантики, к.ричневый, ф..летовым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9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46" dur="2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7" dur="2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Будьте внимательны со словами, правописание которых вы не изучал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Достига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т, окраш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н, отлива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т, не люб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т, показ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ы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вать, выход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т, ранн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м, утр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м пряч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ется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929280" y="5000760"/>
            <a:ext cx="200052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ая работа поможет ясно, в правильном порядке изложить тему и идею текс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(Разбить текст на микротемы \части\ и составить план, озаглавив каждую часть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4f6228"/>
                </a:solidFill>
                <a:uFillTx/>
                <a:latin typeface="Calibri"/>
              </a:rPr>
              <a:t>План</a:t>
            </a:r>
            <a:r>
              <a:rPr b="0" lang="ru-RU" sz="2700" spc="-1" strike="noStrike">
                <a:solidFill>
                  <a:srgbClr val="4f6228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6228"/>
                </a:solidFill>
                <a:latin typeface="Calibri"/>
              </a:rPr>
              <a:t>1. Самый длинный черв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6228"/>
                </a:solidFill>
                <a:latin typeface="Calibri"/>
              </a:rPr>
              <a:t>2. Как узнать чудесного малют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6228"/>
                </a:solidFill>
                <a:latin typeface="Calibri"/>
              </a:rPr>
              <a:t>3. Особенности жизни этого животног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53735"/>
                </a:solidFill>
                <a:latin typeface="Calibri"/>
              </a:rPr>
              <a:t>НЕ ЗАБУДБТЕ ПИСАТЬ КАЖДУЮ ЧАСТЬ 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53735"/>
                </a:solidFill>
                <a:latin typeface="Calibri"/>
              </a:rPr>
              <a:t>КРАСНОЙ СТРОКИ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6228"/>
                </a:solidFill>
                <a:latin typeface="Calibri"/>
              </a:rPr>
              <a:t>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929280" y="5214960"/>
            <a:ext cx="2000520" cy="13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К какому типу отнесём данный текс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(Это повествование с элементами описания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Какие части содержат повествов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(Первая и третья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Какая часть является описани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(Вторая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929280" y="5000760"/>
            <a:ext cx="200052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Прочитайт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текст еще несколько раз. Постарайтесь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запомнит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поточнее.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Изложит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его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письменно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79646"/>
                </a:solidFill>
                <a:latin typeface="Calibri"/>
              </a:rPr>
              <a:t>сейча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на уроке. А </a:t>
            </a:r>
            <a:r>
              <a:rPr b="0" lang="en-US" sz="4000" spc="-1" strike="noStrike">
                <a:solidFill>
                  <a:srgbClr val="f79646"/>
                </a:solidFill>
                <a:latin typeface="Calibri"/>
              </a:rPr>
              <a:t>потом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 вас будет возможность быть интересным рассказчиком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Удивит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родителей и друзей рассказом об этом необычном животно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4200" y="535788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УДАЧИ!!!</a:t>
            </a: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929280" y="5000760"/>
            <a:ext cx="200052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1641240" y="5786280"/>
            <a:ext cx="53791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ww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ЦЕЛЬ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аблюдение над смысловой связью между частями текста и средствами выражения этой связ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Развитие умения воссоздавать текст; редактировать текс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вершенствование умения правильно писать безударные гласные и парные согласные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потреблять в письменной речи синонимы в качестве подлежащ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Вступительная бесе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остановка целей и задач уро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абота с текстом. Чтение. Беседа по содержа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оставление пл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Лексико-орфографическая подготов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овторное чтение. Переска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апись текс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оверка, редактирование текс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Домашние зада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бобщ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одведение итог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Нам предстоит написать изложение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  Что такое 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изложение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717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0" i="1" lang="ru-RU" sz="3000" spc="-1" strike="noStrike">
                <a:solidFill>
                  <a:srgbClr val="002060"/>
                </a:solidFill>
                <a:latin typeface="Calibri"/>
              </a:rPr>
              <a:t>Письменный пересказ текста близко к авторскому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втор назвал текст «Червячок». Можно ли догадаться, о чем в нем будет говорить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(Тему текста подсказывает его название. Это - червяк. И он, видимо, маленьких размеров. Или можно предположить, что это животное очень нравится автору, который, называя предмет, использует уменьшительно-ласкательный суффикс -ок-.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 вот изображение этого червячка! Соответствует ли оно заявленной те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501040" cy="4809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амый длинный червь живет у берегов Атлантики. В длину он достигает гигантских размеров. Известны особи до пятнадцати метров. Живут чудесные малютки целыми семья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Окрашен червь в коричневый цвет. Но отливает он прекрасным фиолетовым цветом. На спине у него темные и светлые полос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любит червячок показывать свой наряд. Выходит он на охоту по ночам. А ранним утром это животное прячется среди камн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кст довольно познавательный несмотря на маленький объём. Какова его идея?</a:t>
            </a:r>
            <a:br>
              <a:rPr sz="4000"/>
            </a:b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(Познакомить читателя с таким необычным животным, как атлантический червь. )</a:t>
            </a:r>
            <a:br>
              <a:rPr sz="3200"/>
            </a:br>
            <a:br>
              <a:rPr sz="3200"/>
            </a:br>
            <a:br>
              <a:rPr sz="40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120" y="314316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то интересного узнали о нём?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*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Каких он размеров.</a:t>
            </a:r>
            <a:br>
              <a:rPr sz="3200"/>
            </a:b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* Как выглядит.</a:t>
            </a:r>
            <a:br>
              <a:rPr sz="3200"/>
            </a:b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*Где и как живёт.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*Чем питается.</a:t>
            </a:r>
            <a:br>
              <a:rPr sz="3200"/>
            </a:b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*В чем особенность образа жизни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929280" y="5000760"/>
            <a:ext cx="200052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Где живет червячок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амый длинный червь живет у берегов Атлантики.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62080" y="993600"/>
            <a:ext cx="8619840" cy="8498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984807"/>
                </a:solidFill>
                <a:latin typeface="Calibri"/>
              </a:rPr>
              <a:t>Каковы размеры животного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 длину он достигает гигантских размеров. Известны особи до пятнадцати метров. 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34800" y="1279440"/>
            <a:ext cx="8547120" cy="760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3:13:49Z</dcterms:created>
  <dc:creator>User</dc:creator>
  <dc:description/>
  <dc:language>en-US</dc:language>
  <cp:lastModifiedBy>Boris</cp:lastModifiedBy>
  <dcterms:modified xsi:type="dcterms:W3CDTF">2012-11-02T18:07:05Z</dcterms:modified>
  <cp:revision>64</cp:revision>
  <dc:subject/>
  <dc:title>Слайд 1</dc:title>
</cp:coreProperties>
</file>