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F10-76B5-4509-B2C9-DA885FFE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FAB-27CB-429B-AF9C-3D7E2B1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8B1-BD5B-4F5D-8A5B-439297E9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E1B-204A-4055-93ED-ED271FCF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5AF1-1DA8-4FAB-82AB-C3AE37E3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264-1446-4933-8790-8DE70D9A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D303-4A17-4D87-A2CB-E01AA46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5630-D44D-458A-9F08-9FDAEAB0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2B4F-3DBB-4D4A-AB75-CE53A1EC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8D44-1B4D-4E6F-97EC-DFF36B7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EE0-9535-40FA-83FD-81BC233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18A-EB2D-4AAB-9D23-32449FC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4FD4-162A-4B20-ABF1-5D74165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4462-BC73-425C-A5B9-62915C6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76F-AE78-4D00-883A-4F3BDC2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EC07-D4F4-48F9-AEAD-32B4FD1D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E4AF-661B-4754-8640-F5A17667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CFF7-DB74-4870-BF6A-97E9080A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37B1-3E79-4DBF-BFCE-49600064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4139-26D6-4000-9097-CC374F19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0BD9-6078-4337-B526-796B654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E929-9CD4-4272-A493-0D86ADB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442-E79D-47D7-AC36-C3079FE7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11CA-142A-4098-8CE8-8B31E52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55C7-A4E2-45B0-B4B0-831BDEB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956D-9240-4E63-B463-CC97AB92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3B28-BE4B-4D52-8DB1-D660BEE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6E33-A361-42CF-8CA8-A83609C7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0FED-94AC-4104-97E8-249199D7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AE1C-9CB3-4457-B9D6-C9C458F6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0D6D-4A2D-4C56-ABEB-C97852A5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033F-4D1E-4F1C-8F05-3C344373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7A80-2826-4307-B06E-9D370097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B66-D5B4-46FD-BB3B-AA6938CB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FEFF-1A7F-4636-85F0-10B8676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5C50-6D35-475A-8102-866042A9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EFEE-5F94-4568-8F5A-60D0FB22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77EB-6DC3-4627-9A48-72B9DBE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180F-F1CE-4C82-9DC0-23A53E42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31AF4-CB31-42B8-A2A8-F2254BD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6D65-5A4E-4FB4-ADB2-F9CF66A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6225-D94D-4154-8ADD-EC84264E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17FA-CEB5-46E0-9C9C-B6D03B0F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54755-EF4A-48DF-A568-7F091DE4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372-4FFD-4426-B4BF-9085165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D59A-5308-4946-92CC-D8E583B3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8979D-8D11-431A-9F7D-902EB372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D5CBE-FF87-43DD-BCF3-0B044C07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64AE-0CEC-430C-B338-4F7425F6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630DB-3F80-4AE5-9F7C-AA3418DB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C3368-C46B-4BAD-856D-2DA6854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0814-DEBA-451C-B356-6A17136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F4400-0B72-4945-A9FB-F68DE5C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D907A-3D92-4D68-B720-63329DD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63EE-A966-403A-97F1-64B5469B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446-57B3-4056-82BF-C290F9A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A0E1-7C7A-4631-A2E8-DF0BA802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89D-B3AB-49C6-A556-A333BAE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AE3-FC14-4025-A9D6-798A311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74B-A0E4-4900-AB87-8CED799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3960"/>
            <a:ext cx="685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83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419B73-EDD2-4F82-9DCC-4BF6EEE662F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54120" y="3060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1956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71560" cy="1233360"/>
            <a:chOff x="7920" y="5540400"/>
            <a:chExt cx="1771560" cy="1233360"/>
          </a:xfrm>
        </p:grpSpPr>
        <p:sp>
          <p:nvSpPr>
            <p:cNvPr id="9" name="Freeform 10"/>
            <p:cNvSpPr/>
            <p:nvPr/>
          </p:nvSpPr>
          <p:spPr>
            <a:xfrm>
              <a:off x="38160" y="5564160"/>
              <a:ext cx="1716120" cy="10177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560"/>
              <a:ext cx="100080" cy="1918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1120"/>
              <a:ext cx="1244520" cy="638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5120"/>
              <a:ext cx="820800" cy="581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7000"/>
              <a:ext cx="201600" cy="1792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8880"/>
              <a:ext cx="107640" cy="164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6160"/>
              <a:ext cx="293400" cy="5954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9160"/>
              <a:ext cx="565200" cy="2635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2600"/>
              <a:ext cx="235080" cy="936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71560" cy="1225440"/>
              <a:chOff x="7920" y="5540400"/>
              <a:chExt cx="1771560" cy="122544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57520" cy="1111320"/>
                <a:chOff x="792000" y="5654520"/>
                <a:chExt cx="857520" cy="1111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4480"/>
                  <a:ext cx="236880" cy="12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800" y="6567480"/>
                  <a:ext cx="169560" cy="198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3720" y="5654520"/>
                  <a:ext cx="55800" cy="173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4520"/>
                <a:ext cx="932040" cy="38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8960"/>
                <a:ext cx="374400" cy="22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2080"/>
                <a:ext cx="157320" cy="36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71560" cy="1063440"/>
                <a:chOff x="7920" y="5540400"/>
                <a:chExt cx="1771560" cy="1063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2000" y="6426360"/>
                  <a:ext cx="106560" cy="12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8040"/>
                  <a:ext cx="1324080" cy="685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8120" y="5985000"/>
                  <a:ext cx="114480" cy="252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800" y="5540400"/>
                  <a:ext cx="498600" cy="9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7640" y="5794200"/>
                  <a:ext cx="139680" cy="387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20560" y="5762520"/>
                  <a:ext cx="297000" cy="201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4720" y="5616720"/>
                  <a:ext cx="734760" cy="32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8320" y="5724360"/>
                  <a:ext cx="376200" cy="12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72960" cy="4295880"/>
            <a:chOff x="8680320" y="2116080"/>
            <a:chExt cx="372960" cy="42958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9080"/>
              <a:ext cx="311040" cy="22528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2240" y="2116080"/>
              <a:ext cx="311040" cy="25797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1659240" y="-805680"/>
            <a:ext cx="13437360" cy="12872520"/>
            <a:chOff x="1659240" y="-805680"/>
            <a:chExt cx="13437360" cy="12872520"/>
          </a:xfrm>
        </p:grpSpPr>
        <p:grpSp>
          <p:nvGrpSpPr>
            <p:cNvPr id="39" name="Group 40"/>
            <p:cNvGrpSpPr/>
            <p:nvPr/>
          </p:nvGrpSpPr>
          <p:grpSpPr>
            <a:xfrm>
              <a:off x="1659240" y="-805680"/>
              <a:ext cx="13437360" cy="12872520"/>
              <a:chOff x="1659240" y="-805680"/>
              <a:chExt cx="13437360" cy="1287252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3720" y="1737000"/>
                <a:ext cx="85680" cy="44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1659240" y="-805680"/>
                <a:ext cx="13437360" cy="12872520"/>
                <a:chOff x="1659240" y="-805680"/>
                <a:chExt cx="13437360" cy="1287252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5662440" y="-352080"/>
                  <a:ext cx="1569600" cy="974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6177240" y="2795400"/>
                  <a:ext cx="2799360" cy="3506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4361760" y="1781640"/>
                  <a:ext cx="5287320" cy="72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4398480" y="216360"/>
                  <a:ext cx="7958880" cy="10828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11680" y="8386560"/>
                  <a:ext cx="173556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7930440" y="7440120"/>
                  <a:ext cx="1871280" cy="1116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5767560" y="1155240"/>
                  <a:ext cx="1871640" cy="1152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5471640" y="415440"/>
                  <a:ext cx="1847520" cy="107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54000" cy="13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882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6EB3D1-40C2-4BE1-8D28-3CB5C71A98C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75320" cy="1765080"/>
            <a:chOff x="195120" y="235080"/>
            <a:chExt cx="3775320" cy="1765080"/>
          </a:xfrm>
        </p:grpSpPr>
        <p:sp>
          <p:nvSpPr>
            <p:cNvPr id="93" name="Freeform 7"/>
            <p:cNvSpPr/>
            <p:nvPr/>
          </p:nvSpPr>
          <p:spPr>
            <a:xfrm>
              <a:off x="281160" y="281160"/>
              <a:ext cx="3558960" cy="16016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360"/>
              <a:ext cx="3549600" cy="1585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6120"/>
              <a:ext cx="2349720" cy="144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75320" cy="1703160"/>
              <a:chOff x="195120" y="235080"/>
              <a:chExt cx="3775320" cy="170316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2760" y="1482840"/>
                <a:ext cx="324000" cy="32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75320" cy="170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440" y="250920"/>
                <a:ext cx="2663640" cy="9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440" y="398520"/>
                <a:ext cx="347400" cy="63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3160" y="851040"/>
                <a:ext cx="1083960" cy="56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6618600" y="3014280"/>
            <a:ext cx="3330360" cy="3750120"/>
            <a:chOff x="6618600" y="3014280"/>
            <a:chExt cx="3330360" cy="375012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802280" y="4653000"/>
              <a:ext cx="986040" cy="4521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82120" y="4632840"/>
              <a:ext cx="982440" cy="447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48800" y="4631400"/>
              <a:ext cx="648000" cy="4078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6618600" y="3014280"/>
              <a:ext cx="3330360" cy="3750120"/>
              <a:chOff x="6618600" y="3014280"/>
              <a:chExt cx="3330360" cy="375012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6891840" y="5373360"/>
                <a:ext cx="259560" cy="34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6669360" y="3934440"/>
                <a:ext cx="3228840" cy="19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7629120" y="4318560"/>
                <a:ext cx="2277360" cy="106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9224640" y="3794040"/>
                <a:ext cx="282240" cy="70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7893720" y="4396680"/>
                <a:ext cx="916560" cy="61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6834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834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444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352680" y="640368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858000" y="6400440"/>
            <a:ext cx="1587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7AB84D-6C30-4898-BD65-47F670494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168120" y="228600"/>
            <a:ext cx="8810640" cy="6083280"/>
            <a:chOff x="168120" y="228600"/>
            <a:chExt cx="8810640" cy="6083280"/>
          </a:xfrm>
        </p:grpSpPr>
        <p:sp>
          <p:nvSpPr>
            <p:cNvPr id="157" name="AutoShape 7"/>
            <p:cNvSpPr/>
            <p:nvPr/>
          </p:nvSpPr>
          <p:spPr>
            <a:xfrm>
              <a:off x="168120" y="228600"/>
              <a:ext cx="8810640" cy="60832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>
              <a:off x="762120" y="1709640"/>
              <a:ext cx="76834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59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444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858000" y="6391440"/>
            <a:ext cx="15876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C16675-C1A6-49FA-B084-70DCE1FE16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10C111-2CDB-44D4-878B-7B49BD418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4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9920" y="2160360"/>
            <a:ext cx="64008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Один. Много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1440000" y="438120"/>
            <a:ext cx="6480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МБОУ  СОШ  №10 ККЮ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Алтайского края г.Рубцов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780000" y="3600360"/>
            <a:ext cx="270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600360" y="4761000"/>
            <a:ext cx="504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Учитель начальных класс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Барсукова Наталья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" descr=""/>
          <p:cNvPicPr/>
          <p:nvPr/>
        </p:nvPicPr>
        <p:blipFill>
          <a:blip r:embed="rId2"/>
          <a:stretch/>
        </p:blipFill>
        <p:spPr>
          <a:xfrm>
            <a:off x="1727280" y="1619280"/>
            <a:ext cx="5834160" cy="504036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2"/>
          <p:cNvSpPr/>
          <p:nvPr/>
        </p:nvSpPr>
        <p:spPr>
          <a:xfrm>
            <a:off x="1079640" y="720720"/>
            <a:ext cx="701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0047"/>
                </a:solidFill>
                <a:latin typeface="Arial"/>
              </a:rPr>
              <a:t>Письмо цифры од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"/>
          <p:cNvPicPr/>
          <p:nvPr/>
        </p:nvPicPr>
        <p:blipFill>
          <a:blip r:embed="rId2"/>
          <a:stretch/>
        </p:blipFill>
        <p:spPr>
          <a:xfrm>
            <a:off x="6300720" y="318960"/>
            <a:ext cx="2578320" cy="49006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179280" y="360360"/>
            <a:ext cx="612000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по рисунку, кто с каким клубком играет, если у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              клубки одинакового цвета, а у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            - одинакового разме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79280" y="4319640"/>
            <a:ext cx="953928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чи рассужд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                 играют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убками синего цвета, значит,          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3"/>
          <a:stretch/>
        </p:blipFill>
        <p:spPr>
          <a:xfrm>
            <a:off x="2519280" y="1440000"/>
            <a:ext cx="1260720" cy="1079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4"/>
          <a:stretch/>
        </p:blipFill>
        <p:spPr>
          <a:xfrm>
            <a:off x="179280" y="1440000"/>
            <a:ext cx="1074960" cy="90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5"/>
          <a:stretch/>
        </p:blipFill>
        <p:spPr>
          <a:xfrm>
            <a:off x="4859280" y="2340000"/>
            <a:ext cx="107964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7"/>
          <p:cNvSpPr/>
          <p:nvPr/>
        </p:nvSpPr>
        <p:spPr>
          <a:xfrm>
            <a:off x="900000" y="2879640"/>
            <a:ext cx="1074960" cy="107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7"/>
          <a:stretch/>
        </p:blipFill>
        <p:spPr>
          <a:xfrm>
            <a:off x="185760" y="4859280"/>
            <a:ext cx="1074600" cy="900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"/>
          <p:cNvPicPr/>
          <p:nvPr/>
        </p:nvPicPr>
        <p:blipFill>
          <a:blip r:embed="rId8"/>
          <a:stretch/>
        </p:blipFill>
        <p:spPr>
          <a:xfrm>
            <a:off x="2340000" y="4859280"/>
            <a:ext cx="1079640" cy="900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"/>
          <p:cNvPicPr/>
          <p:nvPr/>
        </p:nvPicPr>
        <p:blipFill>
          <a:blip r:embed="rId9"/>
          <a:stretch/>
        </p:blipFill>
        <p:spPr>
          <a:xfrm>
            <a:off x="6300720" y="5226120"/>
            <a:ext cx="1079640" cy="10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пасибо за помощь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324000" y="558972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omic Sans MS"/>
              </a:rPr>
              <a:t>До новых встреч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2502000" y="1440000"/>
            <a:ext cx="379728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Text Box 1"/>
          <p:cNvGrpSpPr/>
          <p:nvPr/>
        </p:nvGrpSpPr>
        <p:grpSpPr>
          <a:xfrm>
            <a:off x="317520" y="189000"/>
            <a:ext cx="8412120" cy="5316480"/>
            <a:chOff x="317520" y="189000"/>
            <a:chExt cx="8412120" cy="5316480"/>
          </a:xfrm>
        </p:grpSpPr>
        <p:pic>
          <p:nvPicPr>
            <p:cNvPr id="404" name="Text Box 1" descr=""/>
            <p:cNvPicPr/>
            <p:nvPr/>
          </p:nvPicPr>
          <p:blipFill>
            <a:blip r:embed="rId2"/>
            <a:stretch/>
          </p:blipFill>
          <p:spPr>
            <a:xfrm>
              <a:off x="317520" y="189000"/>
              <a:ext cx="8412120" cy="53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00040" y="285840"/>
              <a:ext cx="8143920" cy="51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</a:rPr>
                <a:t>Интернет — ресурсы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ображение картинки прир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ccccff"/>
                  </a:solidFill>
                  <a:latin typeface="Times New Roman"/>
                </a:rPr>
                <a:t>http://blogs.privet.ru/community/Otdohni_has/11116682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ображение Незнай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ccccff"/>
                  </a:solidFill>
                  <a:latin typeface="Times New Roman"/>
                </a:rPr>
                <a:t>http://festival.1september.ru/articles/526188/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ображение гриб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ccccff"/>
                  </a:solidFill>
                  <a:latin typeface="Times New Roman"/>
                </a:rPr>
                <a:t>http://audioskazki.info/raznoe/5418-fotografii-gribov-ot-373x550-do-5184x3456-5678.htm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ображение иллюстрации сказ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ccccff"/>
                  </a:solidFill>
                  <a:latin typeface="Times New Roman"/>
                </a:rPr>
                <a:t>http://lidia.rusedu.net/blog/2339/page/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ображение груш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ccccff"/>
                  </a:solidFill>
                  <a:latin typeface="Times New Roman"/>
                </a:rPr>
                <a:t>http://pitomnik.com.ua/semechkovie.ht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ображение ромаш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ccccff"/>
                  </a:solidFill>
                  <a:latin typeface="Times New Roman"/>
                </a:rPr>
                <a:t>http://epovar.kz/advices/4-parties-scenarios/379-raz-romashka-dva-romash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ображение дом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ccccff"/>
                  </a:solidFill>
                  <a:latin typeface="Times New Roman"/>
                </a:rPr>
                <a:t>http://parapa.mail.ru/forums/showthread.php?s=6175bbe934668232c491af1dafe68336&amp;t=5928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Прямоугольник 2"/>
          <p:cNvSpPr/>
          <p:nvPr/>
        </p:nvSpPr>
        <p:spPr>
          <a:xfrm>
            <a:off x="2071800" y="5857920"/>
            <a:ext cx="6429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йт : «Школа АБВ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ttp://www.shkola-abv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52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 нам в гости пришел 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924360" y="5373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могите мне, ребята, разобраться: где один, а где мног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2160720" y="1079640"/>
            <a:ext cx="379728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" descr=""/>
          <p:cNvPicPr/>
          <p:nvPr/>
        </p:nvPicPr>
        <p:blipFill>
          <a:blip r:embed="rId2"/>
          <a:stretch/>
        </p:blipFill>
        <p:spPr>
          <a:xfrm>
            <a:off x="530280" y="1800360"/>
            <a:ext cx="3610080" cy="4319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3"/>
          <a:stretch/>
        </p:blipFill>
        <p:spPr>
          <a:xfrm>
            <a:off x="4680000" y="53820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1260360" y="720720"/>
            <a:ext cx="2519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дн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940360" y="5118120"/>
            <a:ext cx="2160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Arial"/>
              </a:rPr>
              <a:t>Мно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"/>
          <p:cNvPicPr/>
          <p:nvPr/>
        </p:nvPicPr>
        <p:blipFill>
          <a:blip r:embed="rId2"/>
          <a:stretch/>
        </p:blipFill>
        <p:spPr>
          <a:xfrm>
            <a:off x="4500720" y="2519280"/>
            <a:ext cx="4444920" cy="3959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3"/>
          <a:stretch/>
        </p:blipFill>
        <p:spPr>
          <a:xfrm>
            <a:off x="360360" y="360360"/>
            <a:ext cx="3959280" cy="3780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900000" y="4484520"/>
            <a:ext cx="270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2300dc"/>
                </a:solidFill>
                <a:latin typeface="Arial"/>
              </a:rPr>
              <a:t>Од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338800" y="720720"/>
            <a:ext cx="28573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Arial"/>
              </a:rPr>
              <a:t>Мног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"/>
          <p:cNvPicPr/>
          <p:nvPr/>
        </p:nvPicPr>
        <p:blipFill>
          <a:blip r:embed="rId2"/>
          <a:stretch/>
        </p:blipFill>
        <p:spPr>
          <a:xfrm>
            <a:off x="360360" y="312840"/>
            <a:ext cx="3780000" cy="3467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3"/>
          <a:stretch/>
        </p:blipFill>
        <p:spPr>
          <a:xfrm>
            <a:off x="4319640" y="3117960"/>
            <a:ext cx="4319640" cy="336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3"/>
          <p:cNvSpPr/>
          <p:nvPr/>
        </p:nvSpPr>
        <p:spPr>
          <a:xfrm>
            <a:off x="539640" y="3959280"/>
            <a:ext cx="2700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д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5040360" y="1979640"/>
            <a:ext cx="2700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b80047"/>
                </a:solidFill>
                <a:latin typeface="Arial"/>
              </a:rPr>
              <a:t>Мно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" descr=""/>
          <p:cNvPicPr/>
          <p:nvPr/>
        </p:nvPicPr>
        <p:blipFill>
          <a:blip r:embed="rId2"/>
          <a:stretch/>
        </p:blipFill>
        <p:spPr>
          <a:xfrm>
            <a:off x="863640" y="993600"/>
            <a:ext cx="7415280" cy="56660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"/>
          <p:cNvSpPr/>
          <p:nvPr/>
        </p:nvSpPr>
        <p:spPr>
          <a:xfrm>
            <a:off x="720720" y="360360"/>
            <a:ext cx="75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 чем можно сказать один, а о чем мно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Times New Roman"/>
              </a:rPr>
              <a:t>Цифра </a:t>
            </a:r>
            <a:r>
              <a:rPr b="1" i="1" lang="ru-RU" sz="6600" spc="-1" strike="noStrike">
                <a:solidFill>
                  <a:srgbClr val="800080"/>
                </a:solidFill>
                <a:latin typeface="Monotype Corsiva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хожа единица на крюч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 может, на обломанный суч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6384240" y="2058840"/>
            <a:ext cx="1827360" cy="3884760"/>
            <a:chOff x="6384240" y="2058840"/>
            <a:chExt cx="1827360" cy="3884760"/>
          </a:xfrm>
        </p:grpSpPr>
        <p:sp>
          <p:nvSpPr>
            <p:cNvPr id="379" name="Line 4"/>
            <p:cNvSpPr/>
            <p:nvPr/>
          </p:nvSpPr>
          <p:spPr>
            <a:xfrm>
              <a:off x="7369200" y="2058840"/>
              <a:ext cx="0" cy="388476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5"/>
            <p:cNvSpPr/>
            <p:nvPr/>
          </p:nvSpPr>
          <p:spPr>
            <a:xfrm flipH="1" rot="10800000">
              <a:off x="6383880" y="2282760"/>
              <a:ext cx="982440" cy="1076400"/>
            </a:xfrm>
            <a:prstGeom prst="pie">
              <a:avLst/>
            </a:pr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369200" y="5151240"/>
              <a:ext cx="148680" cy="2934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rot="20280000">
              <a:off x="7504560" y="4870440"/>
              <a:ext cx="678600" cy="2840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99cc00"/>
                </a:gs>
                <a:gs pos="100000">
                  <a:srgbClr val="008000"/>
                </a:gs>
              </a:gsLst>
              <a:lin ang="2700000"/>
            </a:gra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2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468360" y="549360"/>
            <a:ext cx="410364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Начнём считать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дин, одна –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Моя стра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Здесь наш родной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Любимый дом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тчизна, Родина –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н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У каждого из нас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Д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444920" y="217440"/>
            <a:ext cx="46990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 кого одна нога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а и та без башмака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862440" y="2879640"/>
            <a:ext cx="45990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1:17:38Z</dcterms:created>
  <dc:creator>1</dc:creator>
  <dc:description/>
  <dc:language>en-US</dc:language>
  <cp:lastModifiedBy>Boris</cp:lastModifiedBy>
  <dcterms:modified xsi:type="dcterms:W3CDTF">2013-01-10T16:15:04Z</dcterms:modified>
  <cp:revision>6</cp:revision>
  <dc:subject/>
  <dc:title>Больше. Меньше. Столько же.</dc:title>
</cp:coreProperties>
</file>