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png" ContentType="image/png"/>
  <Override PartName="/ppt/media/image37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35.jpeg" ContentType="image/jpeg"/>
  <Override PartName="/ppt/media/image8.jpeg" ContentType="image/jpe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31.jpeg" ContentType="image/jpeg"/>
  <Override PartName="/ppt/media/image30.jpeg" ContentType="image/jpeg"/>
  <Override PartName="/ppt/media/image20.jpeg" ContentType="image/jpeg"/>
  <Override PartName="/ppt/media/image28.jpeg" ContentType="image/jpeg"/>
  <Override PartName="/ppt/media/image51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-16200"/>
            <a:ext cx="8677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8840" y="925200"/>
            <a:ext cx="92073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58840" y="3753720"/>
            <a:ext cx="92073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-16200"/>
            <a:ext cx="8677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8840" y="925200"/>
            <a:ext cx="44931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7000" y="925200"/>
            <a:ext cx="44931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58840" y="3753720"/>
            <a:ext cx="44931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77000" y="3753720"/>
            <a:ext cx="44931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-16200"/>
            <a:ext cx="8677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8840" y="925200"/>
            <a:ext cx="296460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72120" y="925200"/>
            <a:ext cx="296460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85400" y="925200"/>
            <a:ext cx="296460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58840" y="3753720"/>
            <a:ext cx="296460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72120" y="3753720"/>
            <a:ext cx="296460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85400" y="3753720"/>
            <a:ext cx="296460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-16200"/>
            <a:ext cx="8677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8840" y="925200"/>
            <a:ext cx="920736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-16200"/>
            <a:ext cx="8677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40" y="925200"/>
            <a:ext cx="920736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93720" y="-16200"/>
            <a:ext cx="8677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8840" y="925200"/>
            <a:ext cx="449316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7000" y="925200"/>
            <a:ext cx="449316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93720" y="-16200"/>
            <a:ext cx="8677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93720" y="-360"/>
            <a:ext cx="8677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3720" y="-16200"/>
            <a:ext cx="8677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40" y="925200"/>
            <a:ext cx="44931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7000" y="925200"/>
            <a:ext cx="449316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40" y="3753720"/>
            <a:ext cx="44931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-16200"/>
            <a:ext cx="8677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58840" y="925200"/>
            <a:ext cx="920736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3720" y="-16200"/>
            <a:ext cx="8677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8840" y="925200"/>
            <a:ext cx="449316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7000" y="925200"/>
            <a:ext cx="44931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77000" y="3753720"/>
            <a:ext cx="44931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-16200"/>
            <a:ext cx="8677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8840" y="925200"/>
            <a:ext cx="44931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7000" y="925200"/>
            <a:ext cx="44931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8840" y="3753720"/>
            <a:ext cx="92073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3720" y="-16200"/>
            <a:ext cx="8677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8840" y="925200"/>
            <a:ext cx="92073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8840" y="3753720"/>
            <a:ext cx="92073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3720" y="-16200"/>
            <a:ext cx="8677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8840" y="925200"/>
            <a:ext cx="44931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7000" y="925200"/>
            <a:ext cx="44931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8840" y="3753720"/>
            <a:ext cx="44931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77000" y="3753720"/>
            <a:ext cx="44931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93720" y="-16200"/>
            <a:ext cx="8677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8840" y="925200"/>
            <a:ext cx="296460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72120" y="925200"/>
            <a:ext cx="296460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85400" y="925200"/>
            <a:ext cx="296460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8840" y="3753720"/>
            <a:ext cx="296460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72120" y="3753720"/>
            <a:ext cx="296460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85400" y="3753720"/>
            <a:ext cx="296460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-16200"/>
            <a:ext cx="8677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58840" y="925200"/>
            <a:ext cx="920736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-16200"/>
            <a:ext cx="8677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8840" y="925200"/>
            <a:ext cx="449316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77000" y="925200"/>
            <a:ext cx="449316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-16200"/>
            <a:ext cx="8677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-360"/>
            <a:ext cx="8677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-16200"/>
            <a:ext cx="8677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8840" y="925200"/>
            <a:ext cx="44931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7000" y="925200"/>
            <a:ext cx="449316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58840" y="3753720"/>
            <a:ext cx="44931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-16200"/>
            <a:ext cx="8677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8840" y="925200"/>
            <a:ext cx="449316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7000" y="925200"/>
            <a:ext cx="44931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77000" y="3753720"/>
            <a:ext cx="44931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-16200"/>
            <a:ext cx="8677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8840" y="925200"/>
            <a:ext cx="44931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7000" y="925200"/>
            <a:ext cx="44931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8840" y="3753720"/>
            <a:ext cx="9207360" cy="258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100080"/>
            <a:ext cx="8299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9040" y="1906200"/>
            <a:ext cx="817236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7653240" y="5357880"/>
            <a:ext cx="189864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Freeform 1"/>
          <p:cNvSpPr/>
          <p:nvPr/>
        </p:nvSpPr>
        <p:spPr>
          <a:xfrm>
            <a:off x="8852040" y="5708520"/>
            <a:ext cx="868320" cy="77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AutoShape 2"/>
          <p:cNvSpPr/>
          <p:nvPr/>
        </p:nvSpPr>
        <p:spPr>
          <a:xfrm>
            <a:off x="0" y="0"/>
            <a:ext cx="9720360" cy="609480"/>
          </a:xfrm>
          <a:prstGeom prst="roundRect">
            <a:avLst>
              <a:gd name="adj" fmla="val 25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3720" y="-360"/>
            <a:ext cx="867744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8840" y="925200"/>
            <a:ext cx="920736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9142560" y="5986440"/>
            <a:ext cx="463320" cy="38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173160" y="85680"/>
            <a:ext cx="441360" cy="376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 rot="21060000">
            <a:off x="8872200" y="6105600"/>
            <a:ext cx="9018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960" bIns="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4B454F9A-FE09-444B-8A02-B5E4B24FF077}" type="slidenum"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4"/>
          <a:stretch/>
        </p:blipFill>
        <p:spPr>
          <a:xfrm>
            <a:off x="0" y="3798720"/>
            <a:ext cx="2803680" cy="268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46000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Black"/>
              </a:rPr>
              <a:t>Малофеева Елизавета , гимназия №4, 4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79640" y="899640"/>
            <a:ext cx="813096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ие видов многогранни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ние моделей многогран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803240" y="324324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3419640" y="5043600"/>
            <a:ext cx="1076040" cy="1076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>
            <a:off x="4319640" y="3600360"/>
            <a:ext cx="1038240" cy="1076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4"/>
          <a:stretch/>
        </p:blipFill>
        <p:spPr>
          <a:xfrm>
            <a:off x="5940360" y="486396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5"/>
          <a:stretch/>
        </p:blipFill>
        <p:spPr>
          <a:xfrm>
            <a:off x="7740720" y="396396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3720" y="-360"/>
            <a:ext cx="8678880" cy="6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Black"/>
              </a:rPr>
              <a:t>Практическая част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792000"/>
            <a:ext cx="8640720" cy="8272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изменится объем для разных видов многогранников с одинаковой площадью поверх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3419640" y="1619280"/>
            <a:ext cx="2519280" cy="1979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360360" y="1619280"/>
            <a:ext cx="2519280" cy="197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3"/>
          <a:stretch/>
        </p:blipFill>
        <p:spPr>
          <a:xfrm>
            <a:off x="6480000" y="1619280"/>
            <a:ext cx="2519640" cy="197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4"/>
          <a:stretch/>
        </p:blipFill>
        <p:spPr>
          <a:xfrm>
            <a:off x="3780000" y="3959280"/>
            <a:ext cx="1800000" cy="2340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5400720" y="4140360"/>
            <a:ext cx="377964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М БЛИЖЕ ФОРМА МНОГОГРАННИКА К ШАРУ, ТЕМ БОЛЬШЕ ЕГО ОБЪЕ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39640" y="3600360"/>
            <a:ext cx="21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косаэд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600360" y="3600360"/>
            <a:ext cx="21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ксаэд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659640" y="3600360"/>
            <a:ext cx="21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траэд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3360" y="-360"/>
            <a:ext cx="8666280" cy="6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8000"/>
              </a:lnSpc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Black"/>
              </a:rPr>
              <a:t>Спасибо за внима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30080" y="1096920"/>
            <a:ext cx="4859640" cy="87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еще встретимся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ы обязательно встретимся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3"/>
          <p:cNvSpPr/>
          <p:nvPr/>
        </p:nvSpPr>
        <p:spPr>
          <a:xfrm>
            <a:off x="1144440" y="3597120"/>
            <a:ext cx="807408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: Малофеевой Ли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 проекта: Биндюкова Ольга Владимировна, МО, г.Одинцово МБОУ гимназия №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: «Школа АБВ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kola-ab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50.000009536743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93360" y="-360"/>
            <a:ext cx="8666280" cy="6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Black"/>
              </a:rPr>
              <a:t>Цель работ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00000" y="925560"/>
            <a:ext cx="5867640" cy="24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комство с понятием "многогранник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е видов многогран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знакомление с историей их открыт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зор использования некоторых видов правильных многогранников в жизни человека и в окружающем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611360" y="1922400"/>
            <a:ext cx="1809720" cy="2038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5450040" y="3419640"/>
            <a:ext cx="300960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93720" y="-360"/>
            <a:ext cx="8678880" cy="6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Black"/>
              </a:rPr>
              <a:t>Определение и классификац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00000" y="2518920"/>
            <a:ext cx="665964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6000"/>
          </a:bodyPr>
          <a:p>
            <a:pPr marL="41436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гранники быв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УКЛЫЕ и НЕВЫПУК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РАВИЛЬНЫЕ и ПРАВИ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81080" y="1260360"/>
            <a:ext cx="81741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гранник – это множество многоугольников , ограничивающих часть трехмерного простран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280360" y="2340000"/>
            <a:ext cx="539640" cy="619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7199280" y="2117880"/>
            <a:ext cx="666720" cy="58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720720" y="2036880"/>
            <a:ext cx="1185840" cy="120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4"/>
          <a:stretch/>
        </p:blipFill>
        <p:spPr>
          <a:xfrm>
            <a:off x="2879640" y="4208400"/>
            <a:ext cx="1514520" cy="1550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5"/>
          <a:stretch/>
        </p:blipFill>
        <p:spPr>
          <a:xfrm>
            <a:off x="7920000" y="395928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93720" y="-360"/>
            <a:ext cx="8678880" cy="6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Black"/>
              </a:rPr>
              <a:t>Платоновы многогранник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0360" y="900000"/>
            <a:ext cx="81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правильного многогранника все углы равны и все грани – одинаковые правильные многоуголь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6659640" y="1941480"/>
            <a:ext cx="277488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00000"/>
              </a:buClr>
              <a:buFont typeface="StarSymbol"/>
              <a:buChar char="■"/>
              <a:tabLst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траэд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00000"/>
              </a:buClr>
              <a:buFont typeface="StarSymbol"/>
              <a:buChar char="■"/>
              <a:tabLst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ксаэдр (куб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00000"/>
              </a:buClr>
              <a:buFont typeface="StarSymbol"/>
              <a:buChar char="■"/>
              <a:tabLst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таэд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00000"/>
              </a:buClr>
              <a:buFont typeface="StarSymbol"/>
              <a:buChar char="■"/>
              <a:tabLst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декаэд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00000"/>
              </a:buClr>
              <a:buFont typeface="StarSymbol"/>
              <a:buChar char="■"/>
              <a:tabLst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косаэд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700360" y="1619280"/>
            <a:ext cx="3600360" cy="450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2708280" y="1619280"/>
            <a:ext cx="3591000" cy="450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2700360" y="1619280"/>
            <a:ext cx="3600360" cy="450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4"/>
          <a:stretch/>
        </p:blipFill>
        <p:spPr>
          <a:xfrm>
            <a:off x="2700360" y="1619280"/>
            <a:ext cx="3600360" cy="450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5"/>
          <a:stretch/>
        </p:blipFill>
        <p:spPr>
          <a:xfrm>
            <a:off x="2700360" y="1619280"/>
            <a:ext cx="3600360" cy="4500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evt="end">
                                        <p:tn val="24"/>
                                      </p:cond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93720" y="-360"/>
            <a:ext cx="8678880" cy="6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Black"/>
              </a:rPr>
              <a:t>Архимедовы многогранники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899640"/>
            <a:ext cx="9180720" cy="138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8000"/>
          </a:bodyPr>
          <a:p>
            <a:pPr marL="423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рхимедовы тела – это 13 выпуклых многогранников, у которых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се многогранные углы равны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се грани – правильные многоугольники , но не одинаковые а нескольких тип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7920" y="2700360"/>
            <a:ext cx="2691000" cy="3776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0" y="2700360"/>
            <a:ext cx="2700360" cy="377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3"/>
          <a:stretch/>
        </p:blipFill>
        <p:spPr>
          <a:xfrm>
            <a:off x="7920" y="2700360"/>
            <a:ext cx="2691000" cy="3786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4"/>
          <a:stretch/>
        </p:blipFill>
        <p:spPr>
          <a:xfrm>
            <a:off x="11160" y="2700360"/>
            <a:ext cx="2687760" cy="3786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5"/>
          <a:stretch/>
        </p:blipFill>
        <p:spPr>
          <a:xfrm>
            <a:off x="0" y="2693880"/>
            <a:ext cx="2700360" cy="3786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6"/>
          <a:stretch/>
        </p:blipFill>
        <p:spPr>
          <a:xfrm>
            <a:off x="0" y="2700360"/>
            <a:ext cx="2687760" cy="3786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7"/>
          <a:stretch/>
        </p:blipFill>
        <p:spPr>
          <a:xfrm>
            <a:off x="0" y="2700360"/>
            <a:ext cx="2700360" cy="3786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8"/>
          <a:stretch/>
        </p:blipFill>
        <p:spPr>
          <a:xfrm>
            <a:off x="0" y="2700360"/>
            <a:ext cx="2700360" cy="3786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9"/>
          <a:stretch/>
        </p:blipFill>
        <p:spPr>
          <a:xfrm>
            <a:off x="0" y="2700360"/>
            <a:ext cx="2700360" cy="3786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10"/>
          <a:stretch/>
        </p:blipFill>
        <p:spPr>
          <a:xfrm>
            <a:off x="11160" y="2693880"/>
            <a:ext cx="2687760" cy="3786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/>
          <p:cNvPicPr/>
          <p:nvPr/>
        </p:nvPicPr>
        <p:blipFill>
          <a:blip r:embed="rId11"/>
          <a:stretch/>
        </p:blipFill>
        <p:spPr>
          <a:xfrm>
            <a:off x="11160" y="2700360"/>
            <a:ext cx="2687760" cy="3786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12"/>
          <a:stretch/>
        </p:blipFill>
        <p:spPr>
          <a:xfrm>
            <a:off x="0" y="2700360"/>
            <a:ext cx="2700360" cy="3786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"/>
          <p:cNvPicPr/>
          <p:nvPr/>
        </p:nvPicPr>
        <p:blipFill>
          <a:blip r:embed="rId13"/>
          <a:stretch/>
        </p:blipFill>
        <p:spPr>
          <a:xfrm>
            <a:off x="11160" y="2700360"/>
            <a:ext cx="2687760" cy="3786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224713292310554 0 L 0.720195337435612 0 E">
                                      <p:cBhvr>
                                        <p:cTn id="34" dur="3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90386152166616 0 L 0.72007249589445 0 E">
                                      <p:cBhvr>
                                        <p:cTn id="37" dur="3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90231048200125 0 L 0.719310228513321 0 E">
                                      <p:cBhvr>
                                        <p:cTn id="41" dur="3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99304610733182 0 L 0.718365835222978 0 E">
                                      <p:cBhvr>
                                        <p:cTn id="45" dur="3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48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95018622153816 0 L 0.720053693340175 0 E">
                                      <p:cBhvr>
                                        <p:cTn id="49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99803476946335 0.00113888888888889 L 0.719538170823886 0.00113888888888889 E">
                                      <p:cBhvr>
                                        <p:cTn id="53" dur="3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4000"/>
                            </p:stCondLst>
                            <p:childTnLst>
                              <p:par>
                                <p:cTn id="56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90418331664059 0 L 0.719735944611372 0 E">
                                      <p:cBhvr>
                                        <p:cTn id="57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8000"/>
                            </p:stCondLst>
                            <p:childTnLst>
                              <p:par>
                                <p:cTn id="60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95018622153816 0 L 0.720053693340175 0 E">
                                      <p:cBhvr>
                                        <p:cTn id="61" dur="3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2000"/>
                            </p:stCondLst>
                            <p:childTnLst>
                              <p:par>
                                <p:cTn id="64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95018622153816 0 L 0.720053693340175 0 E">
                                      <p:cBhvr>
                                        <p:cTn id="65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6000"/>
                            </p:stCondLst>
                            <p:childTnLst>
                              <p:par>
                                <p:cTn id="68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94776622110833 0 L 0.719448263714843 0 E">
                                      <p:cBhvr>
                                        <p:cTn id="69" dur="3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0"/>
                            </p:stCondLst>
                            <p:childTnLst>
                              <p:par>
                                <p:cTn id="72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99304610733182 0 L 0.718365835222978 0 E">
                                      <p:cBhvr>
                                        <p:cTn id="73" dur="3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4000"/>
                            </p:stCondLst>
                            <p:childTnLst>
                              <p:par>
                                <p:cTn id="76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99546485260771 0 L 0.718934240362812 0 E">
                                      <p:cBhvr>
                                        <p:cTn id="77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8000"/>
                            </p:stCondLst>
                            <p:childTnLst>
                              <p:par>
                                <p:cTn id="80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94776622110833 0 L 0.719448263714843 0 E">
                                      <p:cBhvr>
                                        <p:cTn id="81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evt="end">
                                        <p:tn val="80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93720" y="-360"/>
            <a:ext cx="8678880" cy="6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Black"/>
              </a:rPr>
              <a:t>Невыпуклые многогранник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079280"/>
            <a:ext cx="468000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8000"/>
          </a:bodyPr>
          <a:p>
            <a:pPr marL="423000" indent="-31716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выпуклые многогранники - это многогранники с плоскостями, впадинами и выступающими “пиками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5219640" y="900000"/>
            <a:ext cx="3959280" cy="5176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3720" y="-360"/>
            <a:ext cx="8678880" cy="6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Black"/>
              </a:rPr>
              <a:t>История открытия и изуче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18920" y="3780000"/>
            <a:ext cx="665964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 век.  Россия.   Леонард Эйлер  -  доказал теорему 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ошении между числом вершин, ребер и граней выпуклого многогранник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шины + Грани – Ребра 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303200" y="900000"/>
            <a:ext cx="857520" cy="99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1260360" y="3780000"/>
            <a:ext cx="990720" cy="1428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3"/>
          <a:stretch/>
        </p:blipFill>
        <p:spPr>
          <a:xfrm>
            <a:off x="1260360" y="2160720"/>
            <a:ext cx="917640" cy="1439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2519280" y="1079640"/>
            <a:ext cx="68407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buClr>
                <a:srgbClr val="000000"/>
              </a:buClr>
              <a:buFont typeface="StarSymbol"/>
              <a:buChar char="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евняя Греция. Платон, Евклид, Архимед – открыли существование правильных и полуправильных многогран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519280" y="2144880"/>
            <a:ext cx="71992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00000"/>
              </a:buClr>
              <a:buFont typeface="StarSymbol"/>
              <a:buChar char="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ие века. Германия. Иоганн Кеплер – классифицировал многогранники и дал современные наз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mph" presetID="35" repeatCount="3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mph" presetID="35" repeatCount="3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mph" presetID="35" repeatCount="3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3720" y="-360"/>
            <a:ext cx="8678880" cy="6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Black"/>
              </a:rPr>
              <a:t>Использование и применение в природе и жизни человек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00360" y="1136160"/>
            <a:ext cx="7380000" cy="35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нергетическая эффективность правильных многогранников объясняет их широкую распространенность в приро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а некоторых кристаллов, вирусов и скелетов некоторых живых организмов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мметрия и связанное с ней понятие человека о красоте объясняет частое использование правильных многогранников в искусстве и дизайне, архитектуре, строительстве и конструировани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365040" y="1027080"/>
            <a:ext cx="895320" cy="952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900000" y="1979640"/>
            <a:ext cx="1100160" cy="890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3"/>
          <a:stretch/>
        </p:blipFill>
        <p:spPr>
          <a:xfrm>
            <a:off x="6799320" y="4397400"/>
            <a:ext cx="2381040" cy="1361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4"/>
          <a:stretch/>
        </p:blipFill>
        <p:spPr>
          <a:xfrm>
            <a:off x="3600360" y="4680000"/>
            <a:ext cx="1790640" cy="1319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93720" y="-360"/>
            <a:ext cx="8678880" cy="6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Black"/>
              </a:rPr>
              <a:t>Правильные многогранники – это очень интересно!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0" y="925560"/>
            <a:ext cx="6228000" cy="23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стоятельное изготовление моделей правильных многогранников позволяет прикоснуться к завораживающему миру “холодной красоты кристаллических форм, которую можно рассматривать как “прообраз” красоты вообще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79280" y="720720"/>
            <a:ext cx="3060720" cy="2155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360360" y="1440000"/>
            <a:ext cx="3060720" cy="216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3"/>
          <a:stretch/>
        </p:blipFill>
        <p:spPr>
          <a:xfrm>
            <a:off x="539640" y="2340000"/>
            <a:ext cx="30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4"/>
          <a:stretch/>
        </p:blipFill>
        <p:spPr>
          <a:xfrm>
            <a:off x="720720" y="3240000"/>
            <a:ext cx="30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5"/>
          <a:stretch/>
        </p:blipFill>
        <p:spPr>
          <a:xfrm>
            <a:off x="4680000" y="3419640"/>
            <a:ext cx="3959280" cy="287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6"/>
          <a:stretch/>
        </p:blipFill>
        <p:spPr>
          <a:xfrm>
            <a:off x="900000" y="4140360"/>
            <a:ext cx="306072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evt="end">
                                        <p:tn val="129"/>
                                      </p:cond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18:00:07Z</dcterms:created>
  <dc:creator>Helen</dc:creator>
  <dc:description>Предложение пути развития и альтернатив, рекомендации по использованию той или другой стратегии</dc:description>
  <dc:language>en-US</dc:language>
  <cp:lastModifiedBy>Берюхов</cp:lastModifiedBy>
  <dcterms:modified xsi:type="dcterms:W3CDTF">2012-07-19T15:57:09Z</dcterms:modified>
  <cp:revision>17</cp:revision>
  <dc:subject/>
  <dc:title>Предложение стратегии</dc:title>
</cp:coreProperties>
</file>