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.png" ContentType="image/pn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55C73-3205-48B5-B7BA-23AC6F232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720E-A994-4BBA-82FE-F08790F98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9C6E-A7E6-414A-8890-081D1A55C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80C77-C168-458F-AEA2-968D2C183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B87E-C5B9-44F9-BECA-1DE93E724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3C97-FC80-4D12-AD00-97FD894AE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84B2-8CCE-4CBC-9CC3-292116E8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7D5EB-18C8-4AAC-9028-42776B6DC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7CA30-0098-4DE0-8C79-3ADE5C4C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E823-D780-4AD1-ACFF-0E8396795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DEDD1-6B79-4D98-B9FC-CBA6CF135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1412A-1697-461F-9040-E312BD701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85DDC-5501-42BF-98AF-3C48904DC33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Записанный звук" descr=""/>
          <p:cNvPicPr/>
          <p:nvPr/>
        </p:nvPicPr>
        <p:blipFill>
          <a:blip r:embed="rId2"/>
          <a:stretch/>
        </p:blipFill>
        <p:spPr>
          <a:xfrm>
            <a:off x="7885080" y="260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http://belgiya.com/uploads/posts/2011-09/1315499183_mini_europe_belgium-0.jpg"/>
          <p:cNvPicPr/>
          <p:nvPr/>
        </p:nvPicPr>
        <p:blipFill>
          <a:blip r:embed="rId3"/>
          <a:stretch/>
        </p:blipFill>
        <p:spPr>
          <a:xfrm>
            <a:off x="-9360" y="0"/>
            <a:ext cx="915336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WordArt 7"/>
          <p:cNvSpPr txBox="1"/>
          <p:nvPr/>
        </p:nvSpPr>
        <p:spPr>
          <a:xfrm>
            <a:off x="571680" y="4000680"/>
            <a:ext cx="8001000" cy="2584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Бельгия 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pull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3000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Записанный звук" descr=""/>
          <p:cNvPicPr/>
          <p:nvPr/>
        </p:nvPicPr>
        <p:blipFill>
          <a:blip r:embed="rId2"/>
          <a:stretch/>
        </p:blipFill>
        <p:spPr>
          <a:xfrm>
            <a:off x="7812000" y="549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4" descr="http://eurogroupe.ru/wp-content/uploads/2013/05/baza-otdjxa-belgium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12000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Записанный звук" descr=""/>
          <p:cNvPicPr/>
          <p:nvPr/>
        </p:nvPicPr>
        <p:blipFill>
          <a:blip r:embed="rId2"/>
          <a:stretch/>
        </p:blipFill>
        <p:spPr>
          <a:xfrm>
            <a:off x="7596360" y="549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4" descr="http://belgium-guide.ru/photos/20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3"/>
          <p:cNvSpPr/>
          <p:nvPr/>
        </p:nvSpPr>
        <p:spPr>
          <a:xfrm>
            <a:off x="504360" y="428760"/>
            <a:ext cx="153252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Брюсс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" dur="9000" fill="hold"/>
                                        <p:tgtEl>
                                          <p:spTgt spid="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Записанный звук" descr=""/>
          <p:cNvPicPr/>
          <p:nvPr/>
        </p:nvPicPr>
        <p:blipFill>
          <a:blip r:embed="rId2"/>
          <a:stretch/>
        </p:blipFill>
        <p:spPr>
          <a:xfrm>
            <a:off x="7956720" y="549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http://www.ekskursii-paris.com/cite_imgs/Brussels.jpe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" dur="14000" fill="hold"/>
                                        <p:tgtEl>
                                          <p:spTgt spid="7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Записанный звук" descr=""/>
          <p:cNvPicPr/>
          <p:nvPr/>
        </p:nvPicPr>
        <p:blipFill>
          <a:blip r:embed="rId2"/>
          <a:stretch/>
        </p:blipFill>
        <p:spPr>
          <a:xfrm>
            <a:off x="8101080" y="549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http://belgium-guide.ru/photos/16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2" dur="14000" fill="hold"/>
                                        <p:tgtEl>
                                          <p:spTgt spid="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http://www.grand-tour.ru/UPLOAD/pictures/Grand_Place_Brussels-summer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http://lifeglobe.net/x/entry/891/IMG_4373774834_1.jpg"/>
          <p:cNvPicPr/>
          <p:nvPr/>
        </p:nvPicPr>
        <p:blipFill>
          <a:blip r:embed="rId2"/>
          <a:stretch/>
        </p:blipFill>
        <p:spPr>
          <a:xfrm>
            <a:off x="19080" y="0"/>
            <a:ext cx="912492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ttp://gooddays.ru/files/news/korolevskiydvoretsbryussely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http://www.holidaym.ru/benelux/img/belgium10_b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8" name="Записанный звук" descr=""/>
          <p:cNvPicPr/>
          <p:nvPr/>
        </p:nvPicPr>
        <p:blipFill>
          <a:blip r:embed="rId3"/>
          <a:stretch/>
        </p:blipFill>
        <p:spPr>
          <a:xfrm>
            <a:off x="8101080" y="404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79" name="WordArt 3"/>
          <p:cNvSpPr txBox="1"/>
          <p:nvPr/>
        </p:nvSpPr>
        <p:spPr>
          <a:xfrm>
            <a:off x="2071800" y="500040"/>
            <a:ext cx="4587840" cy="2168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 </a:t>
            </a:r>
            <a:r>
              <a:rPr b="1" lang="en-US" sz="4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конец  </a:t>
            </a:r>
            <a:endParaRPr b="1" lang="en-US" sz="4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80" name="TextBox 4"/>
          <p:cNvSpPr/>
          <p:nvPr/>
        </p:nvSpPr>
        <p:spPr>
          <a:xfrm>
            <a:off x="2720160" y="5715000"/>
            <a:ext cx="410508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Сайт: «Школа АБВ»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http://shkola-abv.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</a:rPr>
              <a:t>Оформление: Елены Берюхов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Записанный звук" descr=""/>
          <p:cNvPicPr/>
          <p:nvPr/>
        </p:nvPicPr>
        <p:blipFill>
          <a:blip r:embed="rId2"/>
          <a:stretch/>
        </p:blipFill>
        <p:spPr>
          <a:xfrm>
            <a:off x="8317080" y="7650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http://upload.wikimedia.org/wikipedia/commons/4/41/Be-map-ru.png"/>
          <p:cNvPicPr/>
          <p:nvPr/>
        </p:nvPicPr>
        <p:blipFill>
          <a:blip r:embed="rId3"/>
          <a:stretch/>
        </p:blipFill>
        <p:spPr>
          <a:xfrm>
            <a:off x="285840" y="357120"/>
            <a:ext cx="5429160" cy="58435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http://belgiya.com/uploads/posts/2012-12/1354863254_den_korolevskoi_dinastii.jpg"/>
          <p:cNvPicPr/>
          <p:nvPr/>
        </p:nvPicPr>
        <p:blipFill>
          <a:blip r:embed="rId4"/>
          <a:stretch/>
        </p:blipFill>
        <p:spPr>
          <a:xfrm>
            <a:off x="5786280" y="214200"/>
            <a:ext cx="3071880" cy="20559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49" name="Picture 8" descr="http://www.visacenter.ru/upload/imagemanager/belgium_cityhal.jpg"/>
          <p:cNvPicPr/>
          <p:nvPr/>
        </p:nvPicPr>
        <p:blipFill>
          <a:blip r:embed="rId5"/>
          <a:stretch/>
        </p:blipFill>
        <p:spPr>
          <a:xfrm>
            <a:off x="6000840" y="3071880"/>
            <a:ext cx="2857320" cy="33336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pull dir="d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9000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Записанный звук" descr=""/>
          <p:cNvPicPr/>
          <p:nvPr/>
        </p:nvPicPr>
        <p:blipFill>
          <a:blip r:embed="rId2"/>
          <a:stretch/>
        </p:blipFill>
        <p:spPr>
          <a:xfrm>
            <a:off x="7885080" y="54936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http://www.leonardo-travel.ru/resources/mediastorage/images/_______________________________________________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4000" fill="hold"/>
                                        <p:tgtEl>
                                          <p:spTgt spid="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6" descr="http://gidtravel.com/images/2_1271007244.jpg"/>
          <p:cNvPicPr/>
          <p:nvPr/>
        </p:nvPicPr>
        <p:blipFill>
          <a:blip r:embed="rId2"/>
          <a:stretch/>
        </p:blipFill>
        <p:spPr>
          <a:xfrm>
            <a:off x="4143240" y="2071800"/>
            <a:ext cx="4762800" cy="43718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3" name="Записанный звук" descr=""/>
          <p:cNvPicPr/>
          <p:nvPr/>
        </p:nvPicPr>
        <p:blipFill>
          <a:blip r:embed="rId3"/>
          <a:stretch/>
        </p:blipFill>
        <p:spPr>
          <a:xfrm>
            <a:off x="8388360" y="765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" descr="http://novchronic.ru/i/main/11661/1361351181.a.jpg"/>
          <p:cNvPicPr/>
          <p:nvPr/>
        </p:nvPicPr>
        <p:blipFill>
          <a:blip r:embed="rId4"/>
          <a:stretch/>
        </p:blipFill>
        <p:spPr>
          <a:xfrm>
            <a:off x="357120" y="214200"/>
            <a:ext cx="4961160" cy="35719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55" name="Picture 8" descr="http://www.mk.ru/upload/iblock_mk/475/f8/94/65/DETAIL_PICTURE__44389602.jpg"/>
          <p:cNvPicPr/>
          <p:nvPr/>
        </p:nvPicPr>
        <p:blipFill>
          <a:blip r:embed="rId5"/>
          <a:stretch/>
        </p:blipFill>
        <p:spPr>
          <a:xfrm>
            <a:off x="785880" y="4000680"/>
            <a:ext cx="3047760" cy="22842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pull dir="d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12000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Записанный звук" descr=""/>
          <p:cNvPicPr/>
          <p:nvPr/>
        </p:nvPicPr>
        <p:blipFill>
          <a:blip r:embed="rId2"/>
          <a:stretch/>
        </p:blipFill>
        <p:spPr>
          <a:xfrm>
            <a:off x="7667640" y="981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http://forexaw.com/TERMs/Raw_materials/Energy/img24084_1-2_Ugol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0" dur="9000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Записанный звук" descr=""/>
          <p:cNvPicPr/>
          <p:nvPr/>
        </p:nvPicPr>
        <p:blipFill>
          <a:blip r:embed="rId2"/>
          <a:stretch/>
        </p:blipFill>
        <p:spPr>
          <a:xfrm>
            <a:off x="7451640" y="476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" descr="http://v-otpuske.com/wp-content/uploads/2012/09/Belgium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" dur="9000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ttp://travelbooze.com/wp-content/uploads/2011/04/leuven-brussels-airport-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Записанный звук" descr=""/>
          <p:cNvPicPr/>
          <p:nvPr/>
        </p:nvPicPr>
        <p:blipFill>
          <a:blip r:embed="rId2"/>
          <a:stretch/>
        </p:blipFill>
        <p:spPr>
          <a:xfrm>
            <a:off x="7956720" y="54936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http://pics.livejournal.com/www_priroda_su/pic/000getw4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p:transition>
    <p:pull dir="d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" dur="6000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Записанный звук" descr=""/>
          <p:cNvPicPr/>
          <p:nvPr/>
        </p:nvPicPr>
        <p:blipFill>
          <a:blip r:embed="rId2"/>
          <a:stretch/>
        </p:blipFill>
        <p:spPr>
          <a:xfrm>
            <a:off x="8172360" y="69228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4" descr="http://www.gurmania.ru/sites/www.gurmania.ru/files/imagecache/slideshow-600x250/article/40025/slideshow/0206_8.jp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pull dir="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5000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5T04:38:09Z</dcterms:created>
  <dc:creator>Your User Name</dc:creator>
  <dc:description/>
  <dc:language>en-US</dc:language>
  <cp:lastModifiedBy>Boris</cp:lastModifiedBy>
  <dcterms:modified xsi:type="dcterms:W3CDTF">2013-07-26T17:22:17Z</dcterms:modified>
  <cp:revision>6</cp:revision>
  <dc:subject/>
  <dc:title>Слайд 1</dc:title>
</cp:coreProperties>
</file>